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3484-A7DD-42DA-91DF-FBC177A2B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2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4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DC55-C4EE-4E65-8DF2-72254369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876-FC40-4AFE-A595-BB7A76EA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78D-32DD-4B5D-BCD3-284FF779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800-4FE0-47E0-91E7-0DF07CEF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0E37-8AB4-471D-8FED-E4CF704C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91A0-BA0D-4D9D-8107-017B3319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FDF4-EB5A-4537-BD49-0C939301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99D3-E840-4BEF-BFAE-76AC1515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8EF3-7CA0-4C97-85E9-3690B5FF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72E7-F870-4B80-B3F4-236713C3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3EB9-627A-46CE-8C41-3D390491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E4C-F2AA-4CE3-A0BC-9D19A65E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6FB4-BE3D-4E24-8FBA-E3063A93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684F-6680-4C1A-AD43-1783FF3B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051B-782E-44AB-8099-2B1365B6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B383-0342-4FB9-9C66-79A3A823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1485-7DCD-43A0-9015-AB3567BF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1B95-CB06-426E-9E0F-E17AEBD4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952-541B-453E-88D2-24E2F8B3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F3B7-B987-4B1E-BB99-2EA8EB91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33CE-A8E3-4A2F-9E67-18842902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EF6F-7EA2-4DF6-97B7-D3508768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857-A943-41B1-A4BC-B2879417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ED33-A474-4DB9-9FFF-50BB912E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F682-4CA3-41C8-AD14-5C9B0C13B1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1DBE-A681-4CE6-AC79-232A60B156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Palatino"/>
              </a:rPr>
              <a:t>Course #1 Objective:  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Palatino"/>
              </a:rPr>
              <a:t>Students will evaluate numeric expressions using the order of operations</a:t>
            </a:r>
            <a:endParaRPr b="1" lang="en-US" sz="28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olve using the order of operations: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11 – 6 – 12 ÷ 4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14 + 3 x 5 - 2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8 x (7 + 3) ÷ 2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"/>
                <a:ea typeface="Arial"/>
              </a:rPr>
              <a:t>8 + 4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17-11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1" name=""/>
          <p:cNvSpPr/>
          <p:nvPr/>
        </p:nvSpPr>
        <p:spPr>
          <a:xfrm>
            <a:off x="1785960" y="2517840"/>
            <a:ext cx="1812960" cy="893520"/>
          </a:xfrm>
          <a:custGeom>
            <a:avLst/>
            <a:gdLst/>
            <a:ahLst/>
            <a:rect l="l" t="t" r="r" b="b"/>
            <a:pathLst>
              <a:path w="5036" h="2481">
                <a:moveTo>
                  <a:pt x="8384" y="7144"/>
                </a:moveTo>
                <a:cubicBezTo>
                  <a:pt x="8405" y="7228"/>
                  <a:pt x="8425" y="7307"/>
                  <a:pt x="8434" y="7392"/>
                </a:cubicBezTo>
                <a:cubicBezTo>
                  <a:pt x="8566" y="7338"/>
                  <a:pt x="8716" y="7278"/>
                  <a:pt x="8855" y="7243"/>
                </a:cubicBezTo>
                <a:cubicBezTo>
                  <a:pt x="9063" y="7190"/>
                  <a:pt x="9288" y="7174"/>
                  <a:pt x="9500" y="7144"/>
                </a:cubicBezTo>
                <a:cubicBezTo>
                  <a:pt x="9667" y="7120"/>
                  <a:pt x="9905" y="7261"/>
                  <a:pt x="9996" y="7119"/>
                </a:cubicBezTo>
                <a:cubicBezTo>
                  <a:pt x="9996" y="7041"/>
                  <a:pt x="10011" y="7023"/>
                  <a:pt x="9971" y="6995"/>
                </a:cubicBezTo>
              </a:path>
              <a:path w="5036" h="2481">
                <a:moveTo>
                  <a:pt x="8855" y="7615"/>
                </a:moveTo>
                <a:cubicBezTo>
                  <a:pt x="8917" y="7559"/>
                  <a:pt x="9119" y="7358"/>
                  <a:pt x="9203" y="7516"/>
                </a:cubicBezTo>
                <a:cubicBezTo>
                  <a:pt x="9263" y="7629"/>
                  <a:pt x="9133" y="7760"/>
                  <a:pt x="9079" y="7838"/>
                </a:cubicBezTo>
                <a:cubicBezTo>
                  <a:pt x="9062" y="7846"/>
                  <a:pt x="9046" y="7855"/>
                  <a:pt x="9029" y="7863"/>
                </a:cubicBezTo>
                <a:cubicBezTo>
                  <a:pt x="9099" y="7772"/>
                  <a:pt x="9315" y="7643"/>
                  <a:pt x="9277" y="7888"/>
                </a:cubicBezTo>
                <a:cubicBezTo>
                  <a:pt x="9235" y="8155"/>
                  <a:pt x="8995" y="8143"/>
                  <a:pt x="8806" y="8111"/>
                </a:cubicBezTo>
              </a:path>
              <a:path w="5036" h="2481">
                <a:moveTo>
                  <a:pt x="4961" y="7689"/>
                </a:moveTo>
                <a:cubicBezTo>
                  <a:pt x="5039" y="7587"/>
                  <a:pt x="5004" y="7903"/>
                  <a:pt x="5011" y="7962"/>
                </a:cubicBezTo>
                <a:cubicBezTo>
                  <a:pt x="5029" y="8053"/>
                  <a:pt x="5037" y="8060"/>
                  <a:pt x="5035" y="8111"/>
                </a:cubicBezTo>
              </a:path>
              <a:path w="5036" h="2481">
                <a:moveTo>
                  <a:pt x="5333" y="7590"/>
                </a:moveTo>
                <a:cubicBezTo>
                  <a:pt x="5400" y="7731"/>
                  <a:pt x="5424" y="7868"/>
                  <a:pt x="5482" y="8012"/>
                </a:cubicBezTo>
              </a:path>
              <a:path w="5036" h="2481">
                <a:moveTo>
                  <a:pt x="5804" y="7813"/>
                </a:moveTo>
                <a:cubicBezTo>
                  <a:pt x="5897" y="7800"/>
                  <a:pt x="5981" y="7789"/>
                  <a:pt x="6077" y="7789"/>
                </a:cubicBezTo>
              </a:path>
              <a:path w="5036" h="2481">
                <a:moveTo>
                  <a:pt x="6672" y="7516"/>
                </a:moveTo>
                <a:cubicBezTo>
                  <a:pt x="6639" y="7630"/>
                  <a:pt x="6636" y="7745"/>
                  <a:pt x="6672" y="7863"/>
                </a:cubicBezTo>
                <a:cubicBezTo>
                  <a:pt x="6704" y="7968"/>
                  <a:pt x="6804" y="7992"/>
                  <a:pt x="6896" y="7938"/>
                </a:cubicBezTo>
                <a:cubicBezTo>
                  <a:pt x="6950" y="7906"/>
                  <a:pt x="6988" y="7839"/>
                  <a:pt x="7020" y="7789"/>
                </a:cubicBezTo>
                <a:cubicBezTo>
                  <a:pt x="6949" y="7718"/>
                  <a:pt x="6934" y="7721"/>
                  <a:pt x="6871" y="7813"/>
                </a:cubicBezTo>
                <a:cubicBezTo>
                  <a:pt x="6847" y="7861"/>
                  <a:pt x="6839" y="7876"/>
                  <a:pt x="6846" y="7913"/>
                </a:cubicBezTo>
              </a:path>
              <a:path w="5036" h="2481">
                <a:moveTo>
                  <a:pt x="7441" y="7665"/>
                </a:moveTo>
                <a:cubicBezTo>
                  <a:pt x="7558" y="7700"/>
                  <a:pt x="7623" y="7702"/>
                  <a:pt x="7739" y="7689"/>
                </a:cubicBezTo>
              </a:path>
              <a:path w="5036" h="2481">
                <a:moveTo>
                  <a:pt x="5407" y="8161"/>
                </a:moveTo>
                <a:cubicBezTo>
                  <a:pt x="5429" y="8220"/>
                  <a:pt x="5399" y="8260"/>
                  <a:pt x="5457" y="8285"/>
                </a:cubicBezTo>
                <a:cubicBezTo>
                  <a:pt x="5607" y="8351"/>
                  <a:pt x="5821" y="8272"/>
                  <a:pt x="5978" y="8260"/>
                </a:cubicBezTo>
                <a:cubicBezTo>
                  <a:pt x="6244" y="8240"/>
                  <a:pt x="6510" y="8269"/>
                  <a:pt x="6772" y="8235"/>
                </a:cubicBezTo>
                <a:cubicBezTo>
                  <a:pt x="6902" y="8218"/>
                  <a:pt x="6853" y="8141"/>
                  <a:pt x="6846" y="8062"/>
                </a:cubicBezTo>
              </a:path>
              <a:path w="5036" h="2481">
                <a:moveTo>
                  <a:pt x="6449" y="8409"/>
                </a:moveTo>
                <a:cubicBezTo>
                  <a:pt x="6436" y="8411"/>
                  <a:pt x="6256" y="8427"/>
                  <a:pt x="6251" y="8434"/>
                </a:cubicBezTo>
                <a:cubicBezTo>
                  <a:pt x="6224" y="8467"/>
                  <a:pt x="6231" y="8584"/>
                  <a:pt x="6226" y="8632"/>
                </a:cubicBezTo>
                <a:cubicBezTo>
                  <a:pt x="6306" y="8664"/>
                  <a:pt x="6389" y="8571"/>
                  <a:pt x="6499" y="8582"/>
                </a:cubicBezTo>
                <a:cubicBezTo>
                  <a:pt x="6524" y="8590"/>
                  <a:pt x="6548" y="8599"/>
                  <a:pt x="6573" y="8607"/>
                </a:cubicBezTo>
                <a:cubicBezTo>
                  <a:pt x="6573" y="8703"/>
                  <a:pt x="6535" y="8782"/>
                  <a:pt x="6424" y="8806"/>
                </a:cubicBezTo>
                <a:cubicBezTo>
                  <a:pt x="6315" y="8806"/>
                  <a:pt x="6289" y="8801"/>
                  <a:pt x="6226" y="8830"/>
                </a:cubicBezTo>
              </a:path>
              <a:path w="5036" h="2481">
                <a:moveTo>
                  <a:pt x="6921" y="8533"/>
                </a:moveTo>
                <a:cubicBezTo>
                  <a:pt x="6989" y="8601"/>
                  <a:pt x="6991" y="8583"/>
                  <a:pt x="7094" y="8558"/>
                </a:cubicBezTo>
              </a:path>
              <a:path w="5036" h="2481">
                <a:moveTo>
                  <a:pt x="7392" y="8384"/>
                </a:moveTo>
                <a:cubicBezTo>
                  <a:pt x="7455" y="8370"/>
                  <a:pt x="7575" y="8259"/>
                  <a:pt x="7615" y="8359"/>
                </a:cubicBezTo>
                <a:cubicBezTo>
                  <a:pt x="7615" y="8439"/>
                  <a:pt x="7612" y="8468"/>
                  <a:pt x="7565" y="8508"/>
                </a:cubicBezTo>
                <a:cubicBezTo>
                  <a:pt x="7642" y="8526"/>
                  <a:pt x="7765" y="8540"/>
                  <a:pt x="7665" y="8657"/>
                </a:cubicBezTo>
                <a:cubicBezTo>
                  <a:pt x="7601" y="8699"/>
                  <a:pt x="7590" y="8715"/>
                  <a:pt x="7541" y="8706"/>
                </a:cubicBezTo>
              </a:path>
              <a:path w="5036" h="2481">
                <a:moveTo>
                  <a:pt x="6474" y="8930"/>
                </a:moveTo>
                <a:cubicBezTo>
                  <a:pt x="6493" y="9082"/>
                  <a:pt x="6548" y="9048"/>
                  <a:pt x="6697" y="9029"/>
                </a:cubicBezTo>
                <a:cubicBezTo>
                  <a:pt x="6896" y="9004"/>
                  <a:pt x="7125" y="9030"/>
                  <a:pt x="7317" y="8979"/>
                </a:cubicBezTo>
                <a:cubicBezTo>
                  <a:pt x="7370" y="8965"/>
                  <a:pt x="7398" y="8823"/>
                  <a:pt x="7417" y="8781"/>
                </a:cubicBezTo>
              </a:path>
              <a:path w="5036" h="2481">
                <a:moveTo>
                  <a:pt x="6871" y="9178"/>
                </a:moveTo>
                <a:cubicBezTo>
                  <a:pt x="6901" y="9159"/>
                  <a:pt x="7056" y="9026"/>
                  <a:pt x="7069" y="9153"/>
                </a:cubicBezTo>
                <a:cubicBezTo>
                  <a:pt x="7083" y="9283"/>
                  <a:pt x="6985" y="9354"/>
                  <a:pt x="6921" y="9451"/>
                </a:cubicBezTo>
                <a:cubicBezTo>
                  <a:pt x="6953" y="9482"/>
                  <a:pt x="6928" y="9360"/>
                  <a:pt x="7020" y="9376"/>
                </a:cubicBezTo>
                <a:cubicBezTo>
                  <a:pt x="7107" y="9392"/>
                  <a:pt x="7147" y="9467"/>
                  <a:pt x="7243" y="9401"/>
                </a:cubicBezTo>
                <a:cubicBezTo>
                  <a:pt x="7260" y="9384"/>
                  <a:pt x="7276" y="9368"/>
                  <a:pt x="7293" y="93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30800" y="2652840"/>
            <a:ext cx="536400" cy="428400"/>
          </a:xfrm>
          <a:custGeom>
            <a:avLst/>
            <a:gdLst/>
            <a:ahLst/>
            <a:rect l="l" t="t" r="r" b="b"/>
            <a:pathLst>
              <a:path w="1490" h="1192">
                <a:moveTo>
                  <a:pt x="12601" y="7665"/>
                </a:moveTo>
                <a:cubicBezTo>
                  <a:pt x="12628" y="7597"/>
                  <a:pt x="12670" y="7538"/>
                  <a:pt x="12725" y="7491"/>
                </a:cubicBezTo>
                <a:cubicBezTo>
                  <a:pt x="12910" y="7553"/>
                  <a:pt x="12872" y="7745"/>
                  <a:pt x="12799" y="7913"/>
                </a:cubicBezTo>
                <a:cubicBezTo>
                  <a:pt x="12750" y="8026"/>
                  <a:pt x="12660" y="8102"/>
                  <a:pt x="12576" y="8186"/>
                </a:cubicBezTo>
                <a:cubicBezTo>
                  <a:pt x="12686" y="8092"/>
                  <a:pt x="12754" y="8026"/>
                  <a:pt x="12898" y="8111"/>
                </a:cubicBezTo>
                <a:cubicBezTo>
                  <a:pt x="13034" y="8192"/>
                  <a:pt x="12991" y="8201"/>
                  <a:pt x="13122" y="8136"/>
                </a:cubicBezTo>
              </a:path>
              <a:path w="1490" h="1192">
                <a:moveTo>
                  <a:pt x="12303" y="8508"/>
                </a:moveTo>
                <a:cubicBezTo>
                  <a:pt x="12530" y="8556"/>
                  <a:pt x="12723" y="8569"/>
                  <a:pt x="12948" y="8483"/>
                </a:cubicBezTo>
                <a:cubicBezTo>
                  <a:pt x="13201" y="8387"/>
                  <a:pt x="13502" y="8165"/>
                  <a:pt x="13519" y="7863"/>
                </a:cubicBezTo>
                <a:cubicBezTo>
                  <a:pt x="13538" y="7518"/>
                  <a:pt x="13111" y="7397"/>
                  <a:pt x="12849" y="7367"/>
                </a:cubicBezTo>
                <a:cubicBezTo>
                  <a:pt x="12483" y="7326"/>
                  <a:pt x="12209" y="7457"/>
                  <a:pt x="12080" y="7813"/>
                </a:cubicBezTo>
                <a:cubicBezTo>
                  <a:pt x="11919" y="8257"/>
                  <a:pt x="12134" y="8456"/>
                  <a:pt x="12551" y="8508"/>
                </a:cubicBezTo>
                <a:cubicBezTo>
                  <a:pt x="12692" y="8508"/>
                  <a:pt x="12716" y="8508"/>
                  <a:pt x="12799" y="85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75200" y="2295360"/>
            <a:ext cx="189000" cy="258840"/>
          </a:xfrm>
          <a:custGeom>
            <a:avLst/>
            <a:gdLst/>
            <a:ahLst/>
            <a:rect l="l" t="t" r="r" b="b"/>
            <a:pathLst>
              <a:path w="522" h="720">
                <a:moveTo>
                  <a:pt x="16346" y="6474"/>
                </a:moveTo>
                <a:cubicBezTo>
                  <a:pt x="16346" y="6573"/>
                  <a:pt x="16338" y="6647"/>
                  <a:pt x="16321" y="6747"/>
                </a:cubicBezTo>
                <a:cubicBezTo>
                  <a:pt x="16328" y="6796"/>
                  <a:pt x="16355" y="6779"/>
                  <a:pt x="16570" y="6796"/>
                </a:cubicBezTo>
                <a:cubicBezTo>
                  <a:pt x="16690" y="6805"/>
                  <a:pt x="16581" y="6435"/>
                  <a:pt x="16570" y="6375"/>
                </a:cubicBezTo>
                <a:cubicBezTo>
                  <a:pt x="16578" y="6616"/>
                  <a:pt x="16607" y="6854"/>
                  <a:pt x="16619" y="7094"/>
                </a:cubicBezTo>
              </a:path>
              <a:path w="522" h="720">
                <a:moveTo>
                  <a:pt x="16842" y="6921"/>
                </a:moveTo>
                <a:cubicBezTo>
                  <a:pt x="16842" y="6945"/>
                  <a:pt x="16842" y="6954"/>
                  <a:pt x="16842" y="69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27880" y="2160720"/>
            <a:ext cx="2160360" cy="696960"/>
          </a:xfrm>
          <a:custGeom>
            <a:avLst/>
            <a:gdLst/>
            <a:ahLst/>
            <a:rect l="l" t="t" r="r" b="b"/>
            <a:pathLst>
              <a:path w="6004" h="1936">
                <a:moveTo>
                  <a:pt x="18976" y="6176"/>
                </a:moveTo>
                <a:cubicBezTo>
                  <a:pt x="18873" y="6176"/>
                  <a:pt x="18563" y="6182"/>
                  <a:pt x="18529" y="6325"/>
                </a:cubicBezTo>
                <a:cubicBezTo>
                  <a:pt x="18499" y="6448"/>
                  <a:pt x="18815" y="6614"/>
                  <a:pt x="18852" y="6772"/>
                </a:cubicBezTo>
                <a:cubicBezTo>
                  <a:pt x="18802" y="6788"/>
                  <a:pt x="18753" y="6805"/>
                  <a:pt x="18703" y="6821"/>
                </a:cubicBezTo>
                <a:cubicBezTo>
                  <a:pt x="18571" y="6579"/>
                  <a:pt x="18836" y="6471"/>
                  <a:pt x="18926" y="6226"/>
                </a:cubicBezTo>
                <a:cubicBezTo>
                  <a:pt x="18901" y="6176"/>
                  <a:pt x="18893" y="6160"/>
                  <a:pt x="18852" y="6152"/>
                </a:cubicBezTo>
              </a:path>
              <a:path w="6004" h="1936">
                <a:moveTo>
                  <a:pt x="19273" y="6251"/>
                </a:moveTo>
                <a:cubicBezTo>
                  <a:pt x="19287" y="6401"/>
                  <a:pt x="19298" y="6545"/>
                  <a:pt x="19298" y="6697"/>
                </a:cubicBezTo>
              </a:path>
              <a:path w="6004" h="1936">
                <a:moveTo>
                  <a:pt x="19149" y="6524"/>
                </a:moveTo>
                <a:cubicBezTo>
                  <a:pt x="19290" y="6500"/>
                  <a:pt x="19332" y="6494"/>
                  <a:pt x="19422" y="6474"/>
                </a:cubicBezTo>
              </a:path>
              <a:path w="6004" h="1936">
                <a:moveTo>
                  <a:pt x="19546" y="6226"/>
                </a:moveTo>
                <a:cubicBezTo>
                  <a:pt x="19566" y="6286"/>
                  <a:pt x="19561" y="6467"/>
                  <a:pt x="19621" y="6499"/>
                </a:cubicBezTo>
                <a:cubicBezTo>
                  <a:pt x="19743" y="6563"/>
                  <a:pt x="19962" y="6364"/>
                  <a:pt x="20042" y="6300"/>
                </a:cubicBezTo>
              </a:path>
              <a:path w="6004" h="1936">
                <a:moveTo>
                  <a:pt x="19943" y="6003"/>
                </a:moveTo>
                <a:cubicBezTo>
                  <a:pt x="19943" y="6229"/>
                  <a:pt x="19937" y="6449"/>
                  <a:pt x="19968" y="6672"/>
                </a:cubicBezTo>
              </a:path>
              <a:path w="6004" h="1936">
                <a:moveTo>
                  <a:pt x="18132" y="7119"/>
                </a:moveTo>
                <a:cubicBezTo>
                  <a:pt x="18519" y="7097"/>
                  <a:pt x="18911" y="7075"/>
                  <a:pt x="19298" y="7045"/>
                </a:cubicBezTo>
                <a:cubicBezTo>
                  <a:pt x="19677" y="7016"/>
                  <a:pt x="20035" y="6995"/>
                  <a:pt x="20414" y="6995"/>
                </a:cubicBezTo>
              </a:path>
              <a:path w="6004" h="1936">
                <a:moveTo>
                  <a:pt x="18653" y="7516"/>
                </a:moveTo>
                <a:cubicBezTo>
                  <a:pt x="18637" y="7660"/>
                  <a:pt x="18628" y="7793"/>
                  <a:pt x="18628" y="7938"/>
                </a:cubicBezTo>
              </a:path>
              <a:path w="6004" h="1936">
                <a:moveTo>
                  <a:pt x="18827" y="7491"/>
                </a:moveTo>
                <a:cubicBezTo>
                  <a:pt x="18935" y="7453"/>
                  <a:pt x="19039" y="7423"/>
                  <a:pt x="19149" y="7392"/>
                </a:cubicBezTo>
                <a:cubicBezTo>
                  <a:pt x="19169" y="7577"/>
                  <a:pt x="19120" y="7730"/>
                  <a:pt x="19100" y="7913"/>
                </a:cubicBezTo>
              </a:path>
              <a:path w="6004" h="1936">
                <a:moveTo>
                  <a:pt x="19397" y="7615"/>
                </a:moveTo>
                <a:cubicBezTo>
                  <a:pt x="19482" y="7610"/>
                  <a:pt x="19561" y="7599"/>
                  <a:pt x="19645" y="7590"/>
                </a:cubicBezTo>
              </a:path>
              <a:path w="6004" h="1936">
                <a:moveTo>
                  <a:pt x="19844" y="7317"/>
                </a:moveTo>
                <a:cubicBezTo>
                  <a:pt x="19897" y="7462"/>
                  <a:pt x="19908" y="7629"/>
                  <a:pt x="19968" y="7764"/>
                </a:cubicBezTo>
              </a:path>
              <a:path w="6004" h="1936">
                <a:moveTo>
                  <a:pt x="20340" y="7243"/>
                </a:moveTo>
                <a:cubicBezTo>
                  <a:pt x="20390" y="7432"/>
                  <a:pt x="20407" y="7629"/>
                  <a:pt x="20464" y="7813"/>
                </a:cubicBezTo>
              </a:path>
              <a:path w="6004" h="1936">
                <a:moveTo>
                  <a:pt x="20638" y="6871"/>
                </a:moveTo>
                <a:cubicBezTo>
                  <a:pt x="20715" y="6894"/>
                  <a:pt x="20778" y="6896"/>
                  <a:pt x="20861" y="6896"/>
                </a:cubicBezTo>
              </a:path>
              <a:path w="6004" h="1936">
                <a:moveTo>
                  <a:pt x="20737" y="7169"/>
                </a:moveTo>
                <a:cubicBezTo>
                  <a:pt x="20860" y="7144"/>
                  <a:pt x="20901" y="7136"/>
                  <a:pt x="20985" y="7144"/>
                </a:cubicBezTo>
              </a:path>
              <a:path w="6004" h="1936">
                <a:moveTo>
                  <a:pt x="21654" y="6325"/>
                </a:moveTo>
                <a:cubicBezTo>
                  <a:pt x="21671" y="6443"/>
                  <a:pt x="21698" y="6566"/>
                  <a:pt x="21704" y="6697"/>
                </a:cubicBezTo>
              </a:path>
              <a:path w="6004" h="1936">
                <a:moveTo>
                  <a:pt x="21903" y="6300"/>
                </a:moveTo>
                <a:cubicBezTo>
                  <a:pt x="21970" y="6275"/>
                  <a:pt x="22248" y="6172"/>
                  <a:pt x="22200" y="6375"/>
                </a:cubicBezTo>
                <a:cubicBezTo>
                  <a:pt x="22172" y="6495"/>
                  <a:pt x="22070" y="6542"/>
                  <a:pt x="21977" y="6598"/>
                </a:cubicBezTo>
                <a:cubicBezTo>
                  <a:pt x="22069" y="6618"/>
                  <a:pt x="22170" y="6598"/>
                  <a:pt x="22275" y="6598"/>
                </a:cubicBezTo>
                <a:cubicBezTo>
                  <a:pt x="22283" y="6598"/>
                  <a:pt x="22291" y="6598"/>
                  <a:pt x="22299" y="6598"/>
                </a:cubicBezTo>
              </a:path>
              <a:path w="6004" h="1936">
                <a:moveTo>
                  <a:pt x="21456" y="6945"/>
                </a:moveTo>
                <a:cubicBezTo>
                  <a:pt x="21660" y="6891"/>
                  <a:pt x="21952" y="6906"/>
                  <a:pt x="22175" y="6896"/>
                </a:cubicBezTo>
                <a:cubicBezTo>
                  <a:pt x="22269" y="6896"/>
                  <a:pt x="22290" y="6875"/>
                  <a:pt x="22324" y="6921"/>
                </a:cubicBezTo>
              </a:path>
              <a:path w="6004" h="1936">
                <a:moveTo>
                  <a:pt x="21779" y="7119"/>
                </a:moveTo>
                <a:cubicBezTo>
                  <a:pt x="21686" y="7232"/>
                  <a:pt x="21627" y="7324"/>
                  <a:pt x="21605" y="7466"/>
                </a:cubicBezTo>
                <a:cubicBezTo>
                  <a:pt x="21777" y="7512"/>
                  <a:pt x="21959" y="7526"/>
                  <a:pt x="22076" y="7342"/>
                </a:cubicBezTo>
                <a:cubicBezTo>
                  <a:pt x="22076" y="7326"/>
                  <a:pt x="22076" y="7309"/>
                  <a:pt x="22076" y="7293"/>
                </a:cubicBezTo>
                <a:cubicBezTo>
                  <a:pt x="21954" y="7252"/>
                  <a:pt x="21850" y="7227"/>
                  <a:pt x="21803" y="7392"/>
                </a:cubicBezTo>
                <a:cubicBezTo>
                  <a:pt x="21803" y="7466"/>
                  <a:pt x="21803" y="7475"/>
                  <a:pt x="21803" y="7516"/>
                </a:cubicBezTo>
              </a:path>
              <a:path w="6004" h="1936">
                <a:moveTo>
                  <a:pt x="22622" y="6846"/>
                </a:moveTo>
                <a:cubicBezTo>
                  <a:pt x="22704" y="6829"/>
                  <a:pt x="22763" y="6821"/>
                  <a:pt x="22845" y="6821"/>
                </a:cubicBezTo>
              </a:path>
              <a:path w="6004" h="1936">
                <a:moveTo>
                  <a:pt x="22597" y="6995"/>
                </a:moveTo>
                <a:cubicBezTo>
                  <a:pt x="22688" y="7025"/>
                  <a:pt x="22772" y="7020"/>
                  <a:pt x="22870" y="7020"/>
                </a:cubicBezTo>
              </a:path>
              <a:path w="6004" h="1936">
                <a:moveTo>
                  <a:pt x="23267" y="6772"/>
                </a:moveTo>
                <a:cubicBezTo>
                  <a:pt x="23310" y="6654"/>
                  <a:pt x="23321" y="6640"/>
                  <a:pt x="23440" y="6598"/>
                </a:cubicBezTo>
                <a:cubicBezTo>
                  <a:pt x="23543" y="6562"/>
                  <a:pt x="23639" y="6620"/>
                  <a:pt x="23639" y="6747"/>
                </a:cubicBezTo>
                <a:cubicBezTo>
                  <a:pt x="23639" y="6904"/>
                  <a:pt x="23367" y="6993"/>
                  <a:pt x="23267" y="7069"/>
                </a:cubicBezTo>
                <a:cubicBezTo>
                  <a:pt x="23153" y="7156"/>
                  <a:pt x="23085" y="7228"/>
                  <a:pt x="23068" y="7367"/>
                </a:cubicBezTo>
                <a:cubicBezTo>
                  <a:pt x="23144" y="7279"/>
                  <a:pt x="23203" y="7188"/>
                  <a:pt x="23292" y="7119"/>
                </a:cubicBezTo>
                <a:cubicBezTo>
                  <a:pt x="23380" y="7152"/>
                  <a:pt x="23410" y="7265"/>
                  <a:pt x="23540" y="7243"/>
                </a:cubicBezTo>
                <a:cubicBezTo>
                  <a:pt x="23573" y="7226"/>
                  <a:pt x="23606" y="7210"/>
                  <a:pt x="23639" y="7193"/>
                </a:cubicBezTo>
              </a:path>
              <a:path w="6004" h="1936">
                <a:moveTo>
                  <a:pt x="22969" y="7516"/>
                </a:moveTo>
                <a:cubicBezTo>
                  <a:pt x="23154" y="7644"/>
                  <a:pt x="23394" y="7593"/>
                  <a:pt x="23614" y="7516"/>
                </a:cubicBezTo>
                <a:cubicBezTo>
                  <a:pt x="23872" y="7426"/>
                  <a:pt x="24045" y="7289"/>
                  <a:pt x="24110" y="7020"/>
                </a:cubicBezTo>
                <a:cubicBezTo>
                  <a:pt x="24162" y="6804"/>
                  <a:pt x="24158" y="6543"/>
                  <a:pt x="23986" y="6375"/>
                </a:cubicBezTo>
                <a:cubicBezTo>
                  <a:pt x="23846" y="6238"/>
                  <a:pt x="23597" y="6222"/>
                  <a:pt x="23416" y="6251"/>
                </a:cubicBezTo>
                <a:cubicBezTo>
                  <a:pt x="23203" y="6285"/>
                  <a:pt x="23000" y="6398"/>
                  <a:pt x="22870" y="6573"/>
                </a:cubicBezTo>
                <a:cubicBezTo>
                  <a:pt x="22726" y="6768"/>
                  <a:pt x="22703" y="7021"/>
                  <a:pt x="22796" y="7243"/>
                </a:cubicBezTo>
                <a:cubicBezTo>
                  <a:pt x="22901" y="7493"/>
                  <a:pt x="23150" y="7521"/>
                  <a:pt x="23391" y="7541"/>
                </a:cubicBezTo>
                <a:cubicBezTo>
                  <a:pt x="23509" y="7541"/>
                  <a:pt x="23530" y="7527"/>
                  <a:pt x="23589" y="756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2990880"/>
            <a:ext cx="2125800" cy="492120"/>
          </a:xfrm>
          <a:custGeom>
            <a:avLst/>
            <a:gdLst/>
            <a:ahLst/>
            <a:rect l="l" t="t" r="r" b="b"/>
            <a:pathLst>
              <a:path w="5904" h="1365">
                <a:moveTo>
                  <a:pt x="16818" y="8830"/>
                </a:moveTo>
                <a:cubicBezTo>
                  <a:pt x="16595" y="8841"/>
                  <a:pt x="16458" y="8855"/>
                  <a:pt x="16297" y="9004"/>
                </a:cubicBezTo>
                <a:cubicBezTo>
                  <a:pt x="16380" y="9054"/>
                  <a:pt x="17018" y="9366"/>
                  <a:pt x="16669" y="9500"/>
                </a:cubicBezTo>
                <a:cubicBezTo>
                  <a:pt x="16619" y="9492"/>
                  <a:pt x="16570" y="9483"/>
                  <a:pt x="16520" y="9475"/>
                </a:cubicBezTo>
                <a:cubicBezTo>
                  <a:pt x="16547" y="9228"/>
                  <a:pt x="16648" y="9120"/>
                  <a:pt x="16793" y="8905"/>
                </a:cubicBezTo>
              </a:path>
              <a:path w="5904" h="1365">
                <a:moveTo>
                  <a:pt x="16991" y="8979"/>
                </a:moveTo>
                <a:cubicBezTo>
                  <a:pt x="17016" y="9109"/>
                  <a:pt x="17028" y="9243"/>
                  <a:pt x="17041" y="9376"/>
                </a:cubicBezTo>
              </a:path>
              <a:path w="5904" h="1365">
                <a:moveTo>
                  <a:pt x="16768" y="9203"/>
                </a:moveTo>
                <a:cubicBezTo>
                  <a:pt x="16933" y="9203"/>
                  <a:pt x="16999" y="9203"/>
                  <a:pt x="17115" y="9203"/>
                </a:cubicBezTo>
              </a:path>
              <a:path w="5904" h="1365">
                <a:moveTo>
                  <a:pt x="17438" y="8930"/>
                </a:moveTo>
                <a:cubicBezTo>
                  <a:pt x="17438" y="8986"/>
                  <a:pt x="17401" y="9215"/>
                  <a:pt x="17462" y="9252"/>
                </a:cubicBezTo>
                <a:cubicBezTo>
                  <a:pt x="17587" y="9283"/>
                  <a:pt x="17645" y="9284"/>
                  <a:pt x="17735" y="9227"/>
                </a:cubicBezTo>
              </a:path>
              <a:path w="5904" h="1365">
                <a:moveTo>
                  <a:pt x="17735" y="8930"/>
                </a:moveTo>
                <a:cubicBezTo>
                  <a:pt x="17740" y="9097"/>
                  <a:pt x="17746" y="9239"/>
                  <a:pt x="17785" y="9401"/>
                </a:cubicBezTo>
              </a:path>
              <a:path w="5904" h="1365">
                <a:moveTo>
                  <a:pt x="18083" y="8657"/>
                </a:moveTo>
                <a:cubicBezTo>
                  <a:pt x="18316" y="9149"/>
                  <a:pt x="18360" y="9269"/>
                  <a:pt x="17934" y="9599"/>
                </a:cubicBezTo>
              </a:path>
              <a:path w="5904" h="1365">
                <a:moveTo>
                  <a:pt x="16272" y="8384"/>
                </a:moveTo>
                <a:cubicBezTo>
                  <a:pt x="15934" y="8873"/>
                  <a:pt x="15799" y="8963"/>
                  <a:pt x="16148" y="9451"/>
                </a:cubicBezTo>
              </a:path>
              <a:path w="5904" h="1365">
                <a:moveTo>
                  <a:pt x="18331" y="9029"/>
                </a:moveTo>
                <a:cubicBezTo>
                  <a:pt x="18508" y="9029"/>
                  <a:pt x="18677" y="9026"/>
                  <a:pt x="18852" y="9004"/>
                </a:cubicBezTo>
              </a:path>
              <a:path w="5904" h="1365">
                <a:moveTo>
                  <a:pt x="18678" y="8657"/>
                </a:moveTo>
                <a:lnTo>
                  <a:pt x="18678" y="8657"/>
                </a:lnTo>
              </a:path>
              <a:path w="5904" h="1365">
                <a:moveTo>
                  <a:pt x="18628" y="9252"/>
                </a:moveTo>
                <a:lnTo>
                  <a:pt x="18628" y="9252"/>
                </a:lnTo>
              </a:path>
              <a:path w="5904" h="1365">
                <a:moveTo>
                  <a:pt x="19422" y="8855"/>
                </a:moveTo>
                <a:lnTo>
                  <a:pt x="19422" y="8855"/>
                </a:lnTo>
              </a:path>
              <a:path w="5904" h="1365">
                <a:moveTo>
                  <a:pt x="19496" y="8806"/>
                </a:moveTo>
                <a:cubicBezTo>
                  <a:pt x="19517" y="8971"/>
                  <a:pt x="19545" y="9137"/>
                  <a:pt x="19571" y="9302"/>
                </a:cubicBezTo>
              </a:path>
              <a:path w="5904" h="1365">
                <a:moveTo>
                  <a:pt x="19769" y="8855"/>
                </a:moveTo>
                <a:cubicBezTo>
                  <a:pt x="19912" y="8835"/>
                  <a:pt x="20046" y="8830"/>
                  <a:pt x="20191" y="8830"/>
                </a:cubicBezTo>
                <a:cubicBezTo>
                  <a:pt x="20186" y="8988"/>
                  <a:pt x="20174" y="9144"/>
                  <a:pt x="20166" y="9302"/>
                </a:cubicBezTo>
              </a:path>
              <a:path w="5904" h="1365">
                <a:moveTo>
                  <a:pt x="20439" y="9029"/>
                </a:moveTo>
                <a:cubicBezTo>
                  <a:pt x="20564" y="9029"/>
                  <a:pt x="20622" y="9033"/>
                  <a:pt x="20712" y="9054"/>
                </a:cubicBezTo>
              </a:path>
              <a:path w="5904" h="1365">
                <a:moveTo>
                  <a:pt x="20886" y="8855"/>
                </a:moveTo>
                <a:cubicBezTo>
                  <a:pt x="20916" y="9007"/>
                  <a:pt x="20946" y="9149"/>
                  <a:pt x="20960" y="9302"/>
                </a:cubicBezTo>
              </a:path>
              <a:path w="5904" h="1365">
                <a:moveTo>
                  <a:pt x="21307" y="8830"/>
                </a:moveTo>
                <a:cubicBezTo>
                  <a:pt x="21313" y="8989"/>
                  <a:pt x="21325" y="9144"/>
                  <a:pt x="21332" y="9302"/>
                </a:cubicBezTo>
              </a:path>
              <a:path w="5904" h="1365">
                <a:moveTo>
                  <a:pt x="21506" y="8310"/>
                </a:moveTo>
                <a:cubicBezTo>
                  <a:pt x="21594" y="8596"/>
                  <a:pt x="21812" y="8853"/>
                  <a:pt x="21803" y="9178"/>
                </a:cubicBezTo>
                <a:cubicBezTo>
                  <a:pt x="21793" y="9534"/>
                  <a:pt x="21572" y="9570"/>
                  <a:pt x="21307" y="9674"/>
                </a:cubicBezTo>
              </a:path>
              <a:path w="5904" h="1365">
                <a:moveTo>
                  <a:pt x="19521" y="8483"/>
                </a:moveTo>
                <a:cubicBezTo>
                  <a:pt x="19335" y="8656"/>
                  <a:pt x="19177" y="8909"/>
                  <a:pt x="19174" y="9178"/>
                </a:cubicBezTo>
                <a:cubicBezTo>
                  <a:pt x="19171" y="9464"/>
                  <a:pt x="19292" y="9533"/>
                  <a:pt x="19496" y="96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24040" y="3714840"/>
            <a:ext cx="1312920" cy="876240"/>
          </a:xfrm>
          <a:custGeom>
            <a:avLst/>
            <a:gdLst/>
            <a:ahLst/>
            <a:rect l="l" t="t" r="r" b="b"/>
            <a:pathLst>
              <a:path w="3648" h="2432">
                <a:moveTo>
                  <a:pt x="5953" y="10368"/>
                </a:moveTo>
                <a:cubicBezTo>
                  <a:pt x="5953" y="10489"/>
                  <a:pt x="5962" y="10603"/>
                  <a:pt x="5928" y="10716"/>
                </a:cubicBezTo>
                <a:cubicBezTo>
                  <a:pt x="6102" y="10762"/>
                  <a:pt x="6269" y="10724"/>
                  <a:pt x="6449" y="10716"/>
                </a:cubicBezTo>
                <a:cubicBezTo>
                  <a:pt x="6671" y="10707"/>
                  <a:pt x="6874" y="10691"/>
                  <a:pt x="7094" y="10666"/>
                </a:cubicBezTo>
                <a:cubicBezTo>
                  <a:pt x="7127" y="10662"/>
                  <a:pt x="7292" y="10722"/>
                  <a:pt x="7317" y="10691"/>
                </a:cubicBezTo>
                <a:cubicBezTo>
                  <a:pt x="7397" y="10596"/>
                  <a:pt x="7392" y="10435"/>
                  <a:pt x="7392" y="10319"/>
                </a:cubicBezTo>
              </a:path>
              <a:path w="3648" h="2432">
                <a:moveTo>
                  <a:pt x="6499" y="10889"/>
                </a:moveTo>
                <a:cubicBezTo>
                  <a:pt x="6449" y="11027"/>
                  <a:pt x="6446" y="11166"/>
                  <a:pt x="6424" y="11311"/>
                </a:cubicBezTo>
              </a:path>
              <a:path w="3648" h="2432">
                <a:moveTo>
                  <a:pt x="6921" y="10840"/>
                </a:moveTo>
                <a:cubicBezTo>
                  <a:pt x="6744" y="10840"/>
                  <a:pt x="6738" y="10827"/>
                  <a:pt x="6672" y="10988"/>
                </a:cubicBezTo>
                <a:cubicBezTo>
                  <a:pt x="6664" y="11005"/>
                  <a:pt x="6656" y="11021"/>
                  <a:pt x="6648" y="11038"/>
                </a:cubicBezTo>
                <a:cubicBezTo>
                  <a:pt x="6777" y="11048"/>
                  <a:pt x="6877" y="11007"/>
                  <a:pt x="7020" y="11038"/>
                </a:cubicBezTo>
                <a:cubicBezTo>
                  <a:pt x="7045" y="11227"/>
                  <a:pt x="6980" y="11317"/>
                  <a:pt x="6772" y="11361"/>
                </a:cubicBezTo>
                <a:cubicBezTo>
                  <a:pt x="6731" y="11361"/>
                  <a:pt x="6689" y="11361"/>
                  <a:pt x="6648" y="11361"/>
                </a:cubicBezTo>
              </a:path>
              <a:path w="3648" h="2432">
                <a:moveTo>
                  <a:pt x="4812" y="10815"/>
                </a:moveTo>
                <a:cubicBezTo>
                  <a:pt x="4812" y="11001"/>
                  <a:pt x="4809" y="11177"/>
                  <a:pt x="4787" y="11361"/>
                </a:cubicBezTo>
              </a:path>
              <a:path w="3648" h="2432">
                <a:moveTo>
                  <a:pt x="5035" y="10864"/>
                </a:moveTo>
                <a:cubicBezTo>
                  <a:pt x="5026" y="10962"/>
                  <a:pt x="4955" y="11065"/>
                  <a:pt x="5085" y="11088"/>
                </a:cubicBezTo>
                <a:cubicBezTo>
                  <a:pt x="5143" y="11098"/>
                  <a:pt x="5222" y="11088"/>
                  <a:pt x="5283" y="11088"/>
                </a:cubicBezTo>
              </a:path>
              <a:path w="3648" h="2432">
                <a:moveTo>
                  <a:pt x="5333" y="10815"/>
                </a:moveTo>
                <a:cubicBezTo>
                  <a:pt x="5298" y="10986"/>
                  <a:pt x="5308" y="11160"/>
                  <a:pt x="5308" y="11336"/>
                </a:cubicBezTo>
              </a:path>
              <a:path w="3648" h="2432">
                <a:moveTo>
                  <a:pt x="5904" y="11013"/>
                </a:moveTo>
                <a:cubicBezTo>
                  <a:pt x="5927" y="11107"/>
                  <a:pt x="5946" y="11191"/>
                  <a:pt x="5953" y="11286"/>
                </a:cubicBezTo>
              </a:path>
              <a:path w="3648" h="2432">
                <a:moveTo>
                  <a:pt x="5779" y="11187"/>
                </a:moveTo>
                <a:cubicBezTo>
                  <a:pt x="5857" y="11178"/>
                  <a:pt x="5923" y="11167"/>
                  <a:pt x="6003" y="11162"/>
                </a:cubicBezTo>
              </a:path>
              <a:path w="3648" h="2432">
                <a:moveTo>
                  <a:pt x="7491" y="11137"/>
                </a:moveTo>
                <a:cubicBezTo>
                  <a:pt x="7554" y="11168"/>
                  <a:pt x="7585" y="11177"/>
                  <a:pt x="7640" y="11162"/>
                </a:cubicBezTo>
              </a:path>
              <a:path w="3648" h="2432">
                <a:moveTo>
                  <a:pt x="7938" y="10864"/>
                </a:moveTo>
                <a:cubicBezTo>
                  <a:pt x="8036" y="10815"/>
                  <a:pt x="8034" y="10806"/>
                  <a:pt x="8136" y="10840"/>
                </a:cubicBezTo>
                <a:cubicBezTo>
                  <a:pt x="8136" y="11018"/>
                  <a:pt x="8092" y="11036"/>
                  <a:pt x="8012" y="11187"/>
                </a:cubicBezTo>
                <a:cubicBezTo>
                  <a:pt x="7995" y="11228"/>
                  <a:pt x="7979" y="11270"/>
                  <a:pt x="7962" y="11311"/>
                </a:cubicBezTo>
                <a:cubicBezTo>
                  <a:pt x="7977" y="11326"/>
                  <a:pt x="8025" y="11266"/>
                  <a:pt x="8086" y="11237"/>
                </a:cubicBezTo>
                <a:cubicBezTo>
                  <a:pt x="8194" y="11186"/>
                  <a:pt x="8328" y="11205"/>
                  <a:pt x="8434" y="11237"/>
                </a:cubicBezTo>
              </a:path>
              <a:path w="3648" h="2432">
                <a:moveTo>
                  <a:pt x="5234" y="11485"/>
                </a:moveTo>
                <a:cubicBezTo>
                  <a:pt x="5268" y="11545"/>
                  <a:pt x="5287" y="11613"/>
                  <a:pt x="5308" y="11683"/>
                </a:cubicBezTo>
                <a:cubicBezTo>
                  <a:pt x="5515" y="11614"/>
                  <a:pt x="5684" y="11587"/>
                  <a:pt x="5904" y="11584"/>
                </a:cubicBezTo>
                <a:cubicBezTo>
                  <a:pt x="6049" y="11582"/>
                  <a:pt x="6274" y="11647"/>
                  <a:pt x="6400" y="11633"/>
                </a:cubicBezTo>
                <a:cubicBezTo>
                  <a:pt x="6481" y="11624"/>
                  <a:pt x="6464" y="11424"/>
                  <a:pt x="6474" y="11361"/>
                </a:cubicBezTo>
              </a:path>
              <a:path w="3648" h="2432">
                <a:moveTo>
                  <a:pt x="5482" y="11832"/>
                </a:moveTo>
                <a:cubicBezTo>
                  <a:pt x="5552" y="11785"/>
                  <a:pt x="5572" y="11768"/>
                  <a:pt x="5631" y="11782"/>
                </a:cubicBezTo>
                <a:cubicBezTo>
                  <a:pt x="5684" y="11901"/>
                  <a:pt x="5672" y="12087"/>
                  <a:pt x="5507" y="12154"/>
                </a:cubicBezTo>
                <a:cubicBezTo>
                  <a:pt x="5404" y="12196"/>
                  <a:pt x="5376" y="12144"/>
                  <a:pt x="5358" y="12080"/>
                </a:cubicBezTo>
                <a:cubicBezTo>
                  <a:pt x="5503" y="12017"/>
                  <a:pt x="5543" y="12028"/>
                  <a:pt x="5680" y="12105"/>
                </a:cubicBezTo>
              </a:path>
              <a:path w="3648" h="2432">
                <a:moveTo>
                  <a:pt x="6077" y="11807"/>
                </a:moveTo>
                <a:cubicBezTo>
                  <a:pt x="6004" y="11722"/>
                  <a:pt x="5939" y="11710"/>
                  <a:pt x="5854" y="11807"/>
                </a:cubicBezTo>
                <a:cubicBezTo>
                  <a:pt x="5807" y="11877"/>
                  <a:pt x="5790" y="11897"/>
                  <a:pt x="5804" y="11956"/>
                </a:cubicBezTo>
                <a:cubicBezTo>
                  <a:pt x="5933" y="11896"/>
                  <a:pt x="6009" y="11710"/>
                  <a:pt x="6052" y="11881"/>
                </a:cubicBezTo>
                <a:cubicBezTo>
                  <a:pt x="6074" y="12014"/>
                  <a:pt x="6087" y="12048"/>
                  <a:pt x="6052" y="12129"/>
                </a:cubicBezTo>
              </a:path>
              <a:path w="3648" h="2432">
                <a:moveTo>
                  <a:pt x="6499" y="11931"/>
                </a:moveTo>
                <a:cubicBezTo>
                  <a:pt x="6582" y="11931"/>
                  <a:pt x="6616" y="11929"/>
                  <a:pt x="6672" y="11906"/>
                </a:cubicBezTo>
              </a:path>
              <a:path w="3648" h="2432">
                <a:moveTo>
                  <a:pt x="6995" y="11708"/>
                </a:moveTo>
                <a:cubicBezTo>
                  <a:pt x="7111" y="11708"/>
                  <a:pt x="7206" y="11693"/>
                  <a:pt x="7243" y="11832"/>
                </a:cubicBezTo>
                <a:cubicBezTo>
                  <a:pt x="7296" y="12032"/>
                  <a:pt x="7076" y="12066"/>
                  <a:pt x="6945" y="12055"/>
                </a:cubicBezTo>
                <a:cubicBezTo>
                  <a:pt x="6976" y="11948"/>
                  <a:pt x="7082" y="11945"/>
                  <a:pt x="7193" y="11981"/>
                </a:cubicBezTo>
                <a:cubicBezTo>
                  <a:pt x="7227" y="12013"/>
                  <a:pt x="7244" y="12030"/>
                  <a:pt x="7268" y="12055"/>
                </a:cubicBezTo>
              </a:path>
              <a:path w="3648" h="2432">
                <a:moveTo>
                  <a:pt x="5978" y="12229"/>
                </a:moveTo>
                <a:cubicBezTo>
                  <a:pt x="5978" y="12297"/>
                  <a:pt x="5975" y="12316"/>
                  <a:pt x="6003" y="12353"/>
                </a:cubicBezTo>
                <a:cubicBezTo>
                  <a:pt x="6222" y="12325"/>
                  <a:pt x="6401" y="12275"/>
                  <a:pt x="6623" y="12278"/>
                </a:cubicBezTo>
                <a:cubicBezTo>
                  <a:pt x="6708" y="12279"/>
                  <a:pt x="6891" y="12327"/>
                  <a:pt x="6921" y="12204"/>
                </a:cubicBezTo>
                <a:cubicBezTo>
                  <a:pt x="6921" y="12126"/>
                  <a:pt x="6906" y="12109"/>
                  <a:pt x="6945" y="12080"/>
                </a:cubicBezTo>
              </a:path>
              <a:path w="3648" h="2432">
                <a:moveTo>
                  <a:pt x="6201" y="12427"/>
                </a:moveTo>
                <a:cubicBezTo>
                  <a:pt x="6281" y="12415"/>
                  <a:pt x="6522" y="12408"/>
                  <a:pt x="6400" y="12576"/>
                </a:cubicBezTo>
                <a:cubicBezTo>
                  <a:pt x="6317" y="12690"/>
                  <a:pt x="6150" y="12715"/>
                  <a:pt x="6028" y="12750"/>
                </a:cubicBezTo>
                <a:cubicBezTo>
                  <a:pt x="6107" y="12635"/>
                  <a:pt x="6142" y="12640"/>
                  <a:pt x="6276" y="12700"/>
                </a:cubicBezTo>
              </a:path>
              <a:path w="3648" h="2432">
                <a:moveTo>
                  <a:pt x="6474" y="12402"/>
                </a:moveTo>
                <a:cubicBezTo>
                  <a:pt x="6590" y="12402"/>
                  <a:pt x="6683" y="12399"/>
                  <a:pt x="6796" y="12378"/>
                </a:cubicBezTo>
                <a:cubicBezTo>
                  <a:pt x="6783" y="12499"/>
                  <a:pt x="6755" y="12606"/>
                  <a:pt x="6722" y="127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30720" y="4384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252" y="12179"/>
                </a:moveTo>
                <a:lnTo>
                  <a:pt x="9252" y="12179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05120" y="3795840"/>
            <a:ext cx="876240" cy="579240"/>
          </a:xfrm>
          <a:custGeom>
            <a:avLst/>
            <a:gdLst/>
            <a:ahLst/>
            <a:rect l="l" t="t" r="r" b="b"/>
            <a:pathLst>
              <a:path w="2432" h="1613">
                <a:moveTo>
                  <a:pt x="10964" y="11212"/>
                </a:moveTo>
                <a:cubicBezTo>
                  <a:pt x="11135" y="11231"/>
                  <a:pt x="11192" y="11264"/>
                  <a:pt x="11336" y="11361"/>
                </a:cubicBezTo>
                <a:cubicBezTo>
                  <a:pt x="11272" y="11667"/>
                  <a:pt x="11176" y="11708"/>
                  <a:pt x="10864" y="11708"/>
                </a:cubicBezTo>
                <a:cubicBezTo>
                  <a:pt x="10925" y="11541"/>
                  <a:pt x="11065" y="11561"/>
                  <a:pt x="11237" y="11633"/>
                </a:cubicBezTo>
                <a:cubicBezTo>
                  <a:pt x="11262" y="11650"/>
                  <a:pt x="11286" y="11666"/>
                  <a:pt x="11311" y="11683"/>
                </a:cubicBezTo>
              </a:path>
              <a:path w="2432" h="1613">
                <a:moveTo>
                  <a:pt x="11485" y="11137"/>
                </a:moveTo>
                <a:cubicBezTo>
                  <a:pt x="11610" y="11096"/>
                  <a:pt x="11728" y="11067"/>
                  <a:pt x="11857" y="11038"/>
                </a:cubicBezTo>
                <a:cubicBezTo>
                  <a:pt x="11848" y="11225"/>
                  <a:pt x="11823" y="11401"/>
                  <a:pt x="11782" y="11584"/>
                </a:cubicBezTo>
              </a:path>
              <a:path w="2432" h="1613">
                <a:moveTo>
                  <a:pt x="10691" y="12154"/>
                </a:moveTo>
                <a:cubicBezTo>
                  <a:pt x="11094" y="12142"/>
                  <a:pt x="11467" y="12095"/>
                  <a:pt x="11857" y="11981"/>
                </a:cubicBezTo>
                <a:cubicBezTo>
                  <a:pt x="12180" y="11886"/>
                  <a:pt x="12797" y="11680"/>
                  <a:pt x="12725" y="11237"/>
                </a:cubicBezTo>
                <a:cubicBezTo>
                  <a:pt x="12651" y="10787"/>
                  <a:pt x="11991" y="10544"/>
                  <a:pt x="11609" y="10542"/>
                </a:cubicBezTo>
                <a:cubicBezTo>
                  <a:pt x="10986" y="10538"/>
                  <a:pt x="10193" y="11042"/>
                  <a:pt x="10294" y="11757"/>
                </a:cubicBezTo>
                <a:cubicBezTo>
                  <a:pt x="10352" y="11848"/>
                  <a:pt x="10410" y="11939"/>
                  <a:pt x="10468" y="1203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84840" y="4116240"/>
            <a:ext cx="3652560" cy="1187640"/>
          </a:xfrm>
          <a:custGeom>
            <a:avLst/>
            <a:gdLst/>
            <a:ahLst/>
            <a:rect l="l" t="t" r="r" b="b"/>
            <a:pathLst>
              <a:path w="10146" h="3300">
                <a:moveTo>
                  <a:pt x="14163" y="12601"/>
                </a:moveTo>
                <a:cubicBezTo>
                  <a:pt x="14163" y="12743"/>
                  <a:pt x="14172" y="12911"/>
                  <a:pt x="14139" y="13047"/>
                </a:cubicBezTo>
                <a:cubicBezTo>
                  <a:pt x="14131" y="13055"/>
                  <a:pt x="14122" y="13064"/>
                  <a:pt x="14114" y="13072"/>
                </a:cubicBezTo>
              </a:path>
              <a:path w="10146" h="3300">
                <a:moveTo>
                  <a:pt x="14412" y="12551"/>
                </a:moveTo>
                <a:cubicBezTo>
                  <a:pt x="14422" y="12709"/>
                  <a:pt x="14436" y="12863"/>
                  <a:pt x="14436" y="13022"/>
                </a:cubicBezTo>
              </a:path>
              <a:path w="10146" h="3300">
                <a:moveTo>
                  <a:pt x="13568" y="13171"/>
                </a:moveTo>
                <a:cubicBezTo>
                  <a:pt x="13835" y="13387"/>
                  <a:pt x="14167" y="13500"/>
                  <a:pt x="14536" y="13395"/>
                </a:cubicBezTo>
                <a:cubicBezTo>
                  <a:pt x="14872" y="13300"/>
                  <a:pt x="15220" y="12848"/>
                  <a:pt x="14982" y="12502"/>
                </a:cubicBezTo>
                <a:cubicBezTo>
                  <a:pt x="14719" y="12120"/>
                  <a:pt x="14017" y="11886"/>
                  <a:pt x="13717" y="12353"/>
                </a:cubicBezTo>
                <a:cubicBezTo>
                  <a:pt x="13470" y="12738"/>
                  <a:pt x="13673" y="12909"/>
                  <a:pt x="13891" y="13171"/>
                </a:cubicBezTo>
              </a:path>
              <a:path w="10146" h="3300">
                <a:moveTo>
                  <a:pt x="15379" y="11956"/>
                </a:moveTo>
                <a:cubicBezTo>
                  <a:pt x="15403" y="11964"/>
                  <a:pt x="15409" y="12259"/>
                  <a:pt x="15429" y="12427"/>
                </a:cubicBezTo>
              </a:path>
              <a:path w="10146" h="3300">
                <a:moveTo>
                  <a:pt x="15677" y="11708"/>
                </a:moveTo>
                <a:cubicBezTo>
                  <a:pt x="15688" y="11908"/>
                  <a:pt x="15711" y="12103"/>
                  <a:pt x="15726" y="12303"/>
                </a:cubicBezTo>
              </a:path>
              <a:path w="10146" h="3300">
                <a:moveTo>
                  <a:pt x="15528" y="12154"/>
                </a:moveTo>
                <a:lnTo>
                  <a:pt x="15528" y="12154"/>
                </a:lnTo>
              </a:path>
              <a:path w="10146" h="3300">
                <a:moveTo>
                  <a:pt x="16446" y="11733"/>
                </a:moveTo>
                <a:cubicBezTo>
                  <a:pt x="16482" y="11901"/>
                  <a:pt x="16509" y="12046"/>
                  <a:pt x="16570" y="12204"/>
                </a:cubicBezTo>
                <a:cubicBezTo>
                  <a:pt x="16638" y="12023"/>
                  <a:pt x="16700" y="11838"/>
                  <a:pt x="16768" y="11658"/>
                </a:cubicBezTo>
                <a:cubicBezTo>
                  <a:pt x="16783" y="11705"/>
                  <a:pt x="16870" y="12088"/>
                  <a:pt x="16942" y="11981"/>
                </a:cubicBezTo>
                <a:cubicBezTo>
                  <a:pt x="17023" y="11862"/>
                  <a:pt x="17058" y="11576"/>
                  <a:pt x="17090" y="11435"/>
                </a:cubicBezTo>
              </a:path>
              <a:path w="10146" h="3300">
                <a:moveTo>
                  <a:pt x="17388" y="11807"/>
                </a:moveTo>
                <a:lnTo>
                  <a:pt x="17388" y="11807"/>
                </a:lnTo>
              </a:path>
              <a:path w="10146" h="3300">
                <a:moveTo>
                  <a:pt x="16917" y="12948"/>
                </a:moveTo>
                <a:cubicBezTo>
                  <a:pt x="16841" y="13105"/>
                  <a:pt x="16580" y="13485"/>
                  <a:pt x="16718" y="13667"/>
                </a:cubicBezTo>
                <a:cubicBezTo>
                  <a:pt x="16900" y="13909"/>
                  <a:pt x="17185" y="13683"/>
                  <a:pt x="17214" y="13469"/>
                </a:cubicBezTo>
                <a:cubicBezTo>
                  <a:pt x="17206" y="13436"/>
                  <a:pt x="17198" y="13403"/>
                  <a:pt x="17190" y="13370"/>
                </a:cubicBezTo>
                <a:cubicBezTo>
                  <a:pt x="17012" y="13429"/>
                  <a:pt x="17000" y="13520"/>
                  <a:pt x="17041" y="13692"/>
                </a:cubicBezTo>
              </a:path>
              <a:path w="10146" h="3300">
                <a:moveTo>
                  <a:pt x="17562" y="13097"/>
                </a:moveTo>
                <a:cubicBezTo>
                  <a:pt x="17551" y="13272"/>
                  <a:pt x="17537" y="13442"/>
                  <a:pt x="17537" y="13618"/>
                </a:cubicBezTo>
              </a:path>
              <a:path w="10146" h="3300">
                <a:moveTo>
                  <a:pt x="17512" y="13320"/>
                </a:moveTo>
                <a:cubicBezTo>
                  <a:pt x="17586" y="13312"/>
                  <a:pt x="17661" y="13303"/>
                  <a:pt x="17735" y="13295"/>
                </a:cubicBezTo>
              </a:path>
              <a:path w="10146" h="3300">
                <a:moveTo>
                  <a:pt x="18157" y="12898"/>
                </a:moveTo>
                <a:cubicBezTo>
                  <a:pt x="18134" y="13029"/>
                  <a:pt x="18021" y="13380"/>
                  <a:pt x="18132" y="13494"/>
                </a:cubicBezTo>
                <a:cubicBezTo>
                  <a:pt x="18274" y="13640"/>
                  <a:pt x="18541" y="13483"/>
                  <a:pt x="18579" y="13320"/>
                </a:cubicBezTo>
                <a:cubicBezTo>
                  <a:pt x="18571" y="13304"/>
                  <a:pt x="18562" y="13287"/>
                  <a:pt x="18554" y="13271"/>
                </a:cubicBezTo>
                <a:cubicBezTo>
                  <a:pt x="18386" y="13299"/>
                  <a:pt x="18370" y="13368"/>
                  <a:pt x="18306" y="13519"/>
                </a:cubicBezTo>
                <a:cubicBezTo>
                  <a:pt x="18298" y="13535"/>
                  <a:pt x="18289" y="13552"/>
                  <a:pt x="18281" y="13568"/>
                </a:cubicBezTo>
              </a:path>
              <a:path w="10146" h="3300">
                <a:moveTo>
                  <a:pt x="16446" y="13866"/>
                </a:moveTo>
                <a:cubicBezTo>
                  <a:pt x="16852" y="13876"/>
                  <a:pt x="17254" y="13889"/>
                  <a:pt x="17661" y="13891"/>
                </a:cubicBezTo>
                <a:cubicBezTo>
                  <a:pt x="18232" y="13894"/>
                  <a:pt x="18801" y="13866"/>
                  <a:pt x="19372" y="13866"/>
                </a:cubicBezTo>
              </a:path>
              <a:path w="10146" h="3300">
                <a:moveTo>
                  <a:pt x="17239" y="14039"/>
                </a:moveTo>
                <a:cubicBezTo>
                  <a:pt x="17143" y="14199"/>
                  <a:pt x="17034" y="14413"/>
                  <a:pt x="17066" y="14610"/>
                </a:cubicBezTo>
                <a:cubicBezTo>
                  <a:pt x="17082" y="14635"/>
                  <a:pt x="17099" y="14659"/>
                  <a:pt x="17115" y="14684"/>
                </a:cubicBezTo>
                <a:cubicBezTo>
                  <a:pt x="17326" y="14632"/>
                  <a:pt x="17417" y="14625"/>
                  <a:pt x="17512" y="14412"/>
                </a:cubicBezTo>
                <a:cubicBezTo>
                  <a:pt x="17341" y="14433"/>
                  <a:pt x="17300" y="14489"/>
                  <a:pt x="17264" y="14684"/>
                </a:cubicBezTo>
              </a:path>
              <a:path w="10146" h="3300">
                <a:moveTo>
                  <a:pt x="17735" y="14412"/>
                </a:moveTo>
                <a:cubicBezTo>
                  <a:pt x="17768" y="14404"/>
                  <a:pt x="17802" y="14395"/>
                  <a:pt x="17835" y="14387"/>
                </a:cubicBezTo>
              </a:path>
              <a:path w="10146" h="3300">
                <a:moveTo>
                  <a:pt x="18281" y="14163"/>
                </a:moveTo>
                <a:cubicBezTo>
                  <a:pt x="18389" y="14064"/>
                  <a:pt x="18459" y="14012"/>
                  <a:pt x="18604" y="13990"/>
                </a:cubicBezTo>
                <a:cubicBezTo>
                  <a:pt x="18715" y="14214"/>
                  <a:pt x="18591" y="14336"/>
                  <a:pt x="18430" y="14511"/>
                </a:cubicBezTo>
                <a:cubicBezTo>
                  <a:pt x="18322" y="14619"/>
                  <a:pt x="18298" y="14643"/>
                  <a:pt x="18231" y="14709"/>
                </a:cubicBezTo>
                <a:cubicBezTo>
                  <a:pt x="18316" y="14671"/>
                  <a:pt x="18362" y="14555"/>
                  <a:pt x="18479" y="14635"/>
                </a:cubicBezTo>
                <a:cubicBezTo>
                  <a:pt x="18606" y="14723"/>
                  <a:pt x="18780" y="14798"/>
                  <a:pt x="18926" y="14660"/>
                </a:cubicBezTo>
                <a:cubicBezTo>
                  <a:pt x="18926" y="14643"/>
                  <a:pt x="18926" y="14627"/>
                  <a:pt x="18926" y="14610"/>
                </a:cubicBezTo>
              </a:path>
              <a:path w="10146" h="3300">
                <a:moveTo>
                  <a:pt x="17363" y="13320"/>
                </a:moveTo>
                <a:cubicBezTo>
                  <a:pt x="17413" y="13320"/>
                  <a:pt x="17429" y="13320"/>
                  <a:pt x="17462" y="13320"/>
                </a:cubicBezTo>
              </a:path>
              <a:path w="10146" h="3300">
                <a:moveTo>
                  <a:pt x="19298" y="13692"/>
                </a:moveTo>
                <a:cubicBezTo>
                  <a:pt x="19455" y="13709"/>
                  <a:pt x="19606" y="13697"/>
                  <a:pt x="19769" y="13692"/>
                </a:cubicBezTo>
              </a:path>
              <a:path w="10146" h="3300">
                <a:moveTo>
                  <a:pt x="19521" y="13940"/>
                </a:moveTo>
                <a:cubicBezTo>
                  <a:pt x="19671" y="13940"/>
                  <a:pt x="19721" y="13940"/>
                  <a:pt x="19819" y="13915"/>
                </a:cubicBezTo>
              </a:path>
              <a:path w="10146" h="3300">
                <a:moveTo>
                  <a:pt x="20613" y="13047"/>
                </a:moveTo>
                <a:cubicBezTo>
                  <a:pt x="20664" y="13204"/>
                  <a:pt x="20713" y="13361"/>
                  <a:pt x="20762" y="13519"/>
                </a:cubicBezTo>
              </a:path>
              <a:path w="10146" h="3300">
                <a:moveTo>
                  <a:pt x="21084" y="12849"/>
                </a:moveTo>
                <a:cubicBezTo>
                  <a:pt x="21227" y="12824"/>
                  <a:pt x="21271" y="12826"/>
                  <a:pt x="21406" y="12874"/>
                </a:cubicBezTo>
                <a:cubicBezTo>
                  <a:pt x="21407" y="13115"/>
                  <a:pt x="21272" y="13172"/>
                  <a:pt x="21084" y="13320"/>
                </a:cubicBezTo>
                <a:cubicBezTo>
                  <a:pt x="21076" y="13328"/>
                  <a:pt x="21067" y="13337"/>
                  <a:pt x="21059" y="13345"/>
                </a:cubicBezTo>
                <a:cubicBezTo>
                  <a:pt x="21245" y="13376"/>
                  <a:pt x="21420" y="13353"/>
                  <a:pt x="21605" y="13370"/>
                </a:cubicBezTo>
              </a:path>
              <a:path w="10146" h="3300">
                <a:moveTo>
                  <a:pt x="20464" y="13915"/>
                </a:moveTo>
                <a:cubicBezTo>
                  <a:pt x="20828" y="13837"/>
                  <a:pt x="21208" y="13809"/>
                  <a:pt x="21580" y="13816"/>
                </a:cubicBezTo>
                <a:cubicBezTo>
                  <a:pt x="21763" y="13836"/>
                  <a:pt x="21798" y="13835"/>
                  <a:pt x="21903" y="13866"/>
                </a:cubicBezTo>
              </a:path>
              <a:path w="10146" h="3300">
                <a:moveTo>
                  <a:pt x="20935" y="14089"/>
                </a:moveTo>
                <a:cubicBezTo>
                  <a:pt x="20923" y="14212"/>
                  <a:pt x="20903" y="14295"/>
                  <a:pt x="20861" y="14412"/>
                </a:cubicBezTo>
                <a:cubicBezTo>
                  <a:pt x="21012" y="14357"/>
                  <a:pt x="21098" y="14305"/>
                  <a:pt x="21258" y="14288"/>
                </a:cubicBezTo>
              </a:path>
              <a:path w="10146" h="3300">
                <a:moveTo>
                  <a:pt x="21183" y="13990"/>
                </a:moveTo>
                <a:cubicBezTo>
                  <a:pt x="21183" y="14184"/>
                  <a:pt x="21191" y="14369"/>
                  <a:pt x="21208" y="14560"/>
                </a:cubicBezTo>
                <a:cubicBezTo>
                  <a:pt x="21208" y="14577"/>
                  <a:pt x="21208" y="14593"/>
                  <a:pt x="21208" y="14610"/>
                </a:cubicBezTo>
              </a:path>
              <a:path w="10146" h="3300">
                <a:moveTo>
                  <a:pt x="22101" y="13816"/>
                </a:moveTo>
                <a:cubicBezTo>
                  <a:pt x="22193" y="13801"/>
                  <a:pt x="22282" y="13762"/>
                  <a:pt x="22374" y="13742"/>
                </a:cubicBezTo>
                <a:cubicBezTo>
                  <a:pt x="22382" y="13742"/>
                  <a:pt x="22391" y="13742"/>
                  <a:pt x="22399" y="13742"/>
                </a:cubicBezTo>
              </a:path>
              <a:path w="10146" h="3300">
                <a:moveTo>
                  <a:pt x="22151" y="14089"/>
                </a:moveTo>
                <a:cubicBezTo>
                  <a:pt x="22200" y="14081"/>
                  <a:pt x="22250" y="14072"/>
                  <a:pt x="22299" y="14064"/>
                </a:cubicBezTo>
              </a:path>
              <a:path w="10146" h="3300">
                <a:moveTo>
                  <a:pt x="22944" y="13444"/>
                </a:moveTo>
                <a:cubicBezTo>
                  <a:pt x="22989" y="13389"/>
                  <a:pt x="23198" y="13232"/>
                  <a:pt x="23217" y="13419"/>
                </a:cubicBezTo>
                <a:cubicBezTo>
                  <a:pt x="23188" y="13537"/>
                  <a:pt x="23165" y="13582"/>
                  <a:pt x="23068" y="13618"/>
                </a:cubicBezTo>
                <a:cubicBezTo>
                  <a:pt x="23035" y="13634"/>
                  <a:pt x="23002" y="13651"/>
                  <a:pt x="22969" y="13667"/>
                </a:cubicBezTo>
                <a:cubicBezTo>
                  <a:pt x="23082" y="13639"/>
                  <a:pt x="23429" y="13614"/>
                  <a:pt x="23267" y="13866"/>
                </a:cubicBezTo>
                <a:cubicBezTo>
                  <a:pt x="23149" y="14050"/>
                  <a:pt x="22937" y="13977"/>
                  <a:pt x="22771" y="13940"/>
                </a:cubicBezTo>
              </a:path>
              <a:path w="10146" h="3300">
                <a:moveTo>
                  <a:pt x="22597" y="14139"/>
                </a:moveTo>
                <a:cubicBezTo>
                  <a:pt x="22795" y="14324"/>
                  <a:pt x="23003" y="14340"/>
                  <a:pt x="23267" y="14213"/>
                </a:cubicBezTo>
                <a:cubicBezTo>
                  <a:pt x="23558" y="14073"/>
                  <a:pt x="23700" y="13782"/>
                  <a:pt x="23713" y="13469"/>
                </a:cubicBezTo>
                <a:cubicBezTo>
                  <a:pt x="23728" y="13097"/>
                  <a:pt x="23512" y="12904"/>
                  <a:pt x="23143" y="12923"/>
                </a:cubicBezTo>
                <a:cubicBezTo>
                  <a:pt x="22757" y="12943"/>
                  <a:pt x="22456" y="13353"/>
                  <a:pt x="22423" y="13717"/>
                </a:cubicBezTo>
                <a:cubicBezTo>
                  <a:pt x="22385" y="14134"/>
                  <a:pt x="22607" y="14197"/>
                  <a:pt x="22895" y="1433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17760" y="4795920"/>
            <a:ext cx="1046160" cy="455400"/>
          </a:xfrm>
          <a:custGeom>
            <a:avLst/>
            <a:gdLst/>
            <a:ahLst/>
            <a:rect l="l" t="t" r="r" b="b"/>
            <a:pathLst>
              <a:path w="2903" h="1266">
                <a:moveTo>
                  <a:pt x="5581" y="13568"/>
                </a:moveTo>
                <a:cubicBezTo>
                  <a:pt x="5598" y="13675"/>
                  <a:pt x="5612" y="13739"/>
                  <a:pt x="5581" y="13841"/>
                </a:cubicBezTo>
                <a:cubicBezTo>
                  <a:pt x="5781" y="13787"/>
                  <a:pt x="5953" y="13706"/>
                  <a:pt x="6176" y="13692"/>
                </a:cubicBezTo>
                <a:cubicBezTo>
                  <a:pt x="6438" y="13676"/>
                  <a:pt x="6709" y="13694"/>
                  <a:pt x="6970" y="13667"/>
                </a:cubicBezTo>
                <a:cubicBezTo>
                  <a:pt x="7054" y="13647"/>
                  <a:pt x="7073" y="13632"/>
                  <a:pt x="7119" y="13667"/>
                </a:cubicBezTo>
                <a:cubicBezTo>
                  <a:pt x="7101" y="13554"/>
                  <a:pt x="7138" y="13301"/>
                  <a:pt x="7069" y="13370"/>
                </a:cubicBezTo>
              </a:path>
              <a:path w="2903" h="1266">
                <a:moveTo>
                  <a:pt x="6127" y="13915"/>
                </a:moveTo>
                <a:cubicBezTo>
                  <a:pt x="6068" y="13936"/>
                  <a:pt x="6100" y="14209"/>
                  <a:pt x="6077" y="14337"/>
                </a:cubicBezTo>
                <a:cubicBezTo>
                  <a:pt x="6069" y="14354"/>
                  <a:pt x="6060" y="14370"/>
                  <a:pt x="6052" y="14387"/>
                </a:cubicBezTo>
              </a:path>
              <a:path w="2903" h="1266">
                <a:moveTo>
                  <a:pt x="6548" y="13965"/>
                </a:moveTo>
                <a:cubicBezTo>
                  <a:pt x="6430" y="14044"/>
                  <a:pt x="6356" y="14136"/>
                  <a:pt x="6424" y="14288"/>
                </a:cubicBezTo>
                <a:cubicBezTo>
                  <a:pt x="6504" y="14468"/>
                  <a:pt x="6711" y="14173"/>
                  <a:pt x="6722" y="14089"/>
                </a:cubicBezTo>
                <a:cubicBezTo>
                  <a:pt x="6738" y="13961"/>
                  <a:pt x="6655" y="13955"/>
                  <a:pt x="6573" y="13940"/>
                </a:cubicBezTo>
              </a:path>
              <a:path w="2903" h="1266">
                <a:moveTo>
                  <a:pt x="4663" y="14039"/>
                </a:moveTo>
                <a:cubicBezTo>
                  <a:pt x="4527" y="13986"/>
                  <a:pt x="4455" y="13975"/>
                  <a:pt x="4341" y="14089"/>
                </a:cubicBezTo>
                <a:cubicBezTo>
                  <a:pt x="4277" y="14174"/>
                  <a:pt x="4265" y="14194"/>
                  <a:pt x="4217" y="14238"/>
                </a:cubicBezTo>
                <a:cubicBezTo>
                  <a:pt x="4300" y="14293"/>
                  <a:pt x="4578" y="14343"/>
                  <a:pt x="4564" y="14486"/>
                </a:cubicBezTo>
                <a:cubicBezTo>
                  <a:pt x="4523" y="14567"/>
                  <a:pt x="4527" y="14600"/>
                  <a:pt x="4465" y="14585"/>
                </a:cubicBezTo>
                <a:cubicBezTo>
                  <a:pt x="4411" y="14424"/>
                  <a:pt x="4418" y="14334"/>
                  <a:pt x="4539" y="14213"/>
                </a:cubicBezTo>
              </a:path>
              <a:path w="2903" h="1266">
                <a:moveTo>
                  <a:pt x="5035" y="14188"/>
                </a:moveTo>
                <a:cubicBezTo>
                  <a:pt x="5058" y="14305"/>
                  <a:pt x="5123" y="14383"/>
                  <a:pt x="5184" y="14486"/>
                </a:cubicBezTo>
              </a:path>
              <a:path w="2903" h="1266">
                <a:moveTo>
                  <a:pt x="5159" y="14213"/>
                </a:moveTo>
                <a:cubicBezTo>
                  <a:pt x="5115" y="14318"/>
                  <a:pt x="5062" y="14427"/>
                  <a:pt x="5035" y="145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31960" y="5027760"/>
            <a:ext cx="1305000" cy="1089000"/>
          </a:xfrm>
          <a:custGeom>
            <a:avLst/>
            <a:gdLst/>
            <a:ahLst/>
            <a:rect l="l" t="t" r="r" b="b"/>
            <a:pathLst>
              <a:path w="3623" h="3027">
                <a:moveTo>
                  <a:pt x="7293" y="14163"/>
                </a:moveTo>
                <a:cubicBezTo>
                  <a:pt x="7433" y="14174"/>
                  <a:pt x="7528" y="14173"/>
                  <a:pt x="7665" y="14163"/>
                </a:cubicBezTo>
              </a:path>
              <a:path w="3623" h="3027">
                <a:moveTo>
                  <a:pt x="7516" y="13990"/>
                </a:moveTo>
                <a:lnTo>
                  <a:pt x="7516" y="13990"/>
                </a:lnTo>
              </a:path>
              <a:path w="3623" h="3027">
                <a:moveTo>
                  <a:pt x="7516" y="14412"/>
                </a:moveTo>
                <a:lnTo>
                  <a:pt x="7516" y="14412"/>
                </a:lnTo>
              </a:path>
              <a:path w="3623" h="3027">
                <a:moveTo>
                  <a:pt x="7962" y="14039"/>
                </a:moveTo>
                <a:cubicBezTo>
                  <a:pt x="8080" y="14003"/>
                  <a:pt x="8169" y="13983"/>
                  <a:pt x="8285" y="13990"/>
                </a:cubicBezTo>
                <a:cubicBezTo>
                  <a:pt x="8247" y="14177"/>
                  <a:pt x="8136" y="14298"/>
                  <a:pt x="8037" y="14461"/>
                </a:cubicBezTo>
                <a:cubicBezTo>
                  <a:pt x="8178" y="14445"/>
                  <a:pt x="8300" y="14409"/>
                  <a:pt x="8434" y="14362"/>
                </a:cubicBezTo>
              </a:path>
              <a:path w="3623" h="3027">
                <a:moveTo>
                  <a:pt x="4812" y="14610"/>
                </a:moveTo>
                <a:cubicBezTo>
                  <a:pt x="4832" y="14710"/>
                  <a:pt x="4853" y="14807"/>
                  <a:pt x="4862" y="14908"/>
                </a:cubicBezTo>
                <a:cubicBezTo>
                  <a:pt x="5103" y="14922"/>
                  <a:pt x="5328" y="14788"/>
                  <a:pt x="5581" y="14784"/>
                </a:cubicBezTo>
                <a:cubicBezTo>
                  <a:pt x="5686" y="14782"/>
                  <a:pt x="5829" y="14894"/>
                  <a:pt x="5854" y="14784"/>
                </a:cubicBezTo>
                <a:cubicBezTo>
                  <a:pt x="5877" y="14693"/>
                  <a:pt x="5885" y="14670"/>
                  <a:pt x="5879" y="14610"/>
                </a:cubicBezTo>
              </a:path>
              <a:path w="3623" h="3027">
                <a:moveTo>
                  <a:pt x="5308" y="15131"/>
                </a:moveTo>
                <a:cubicBezTo>
                  <a:pt x="5176" y="15182"/>
                  <a:pt x="5079" y="15254"/>
                  <a:pt x="4961" y="15329"/>
                </a:cubicBezTo>
                <a:cubicBezTo>
                  <a:pt x="5079" y="15410"/>
                  <a:pt x="5366" y="15534"/>
                  <a:pt x="5110" y="15677"/>
                </a:cubicBezTo>
                <a:cubicBezTo>
                  <a:pt x="5085" y="15677"/>
                  <a:pt x="5060" y="15677"/>
                  <a:pt x="5035" y="15677"/>
                </a:cubicBezTo>
                <a:cubicBezTo>
                  <a:pt x="5061" y="15554"/>
                  <a:pt x="5104" y="15449"/>
                  <a:pt x="5209" y="15379"/>
                </a:cubicBezTo>
              </a:path>
              <a:path w="3623" h="3027">
                <a:moveTo>
                  <a:pt x="5531" y="15205"/>
                </a:moveTo>
                <a:cubicBezTo>
                  <a:pt x="5443" y="15427"/>
                  <a:pt x="5362" y="15551"/>
                  <a:pt x="5581" y="15677"/>
                </a:cubicBezTo>
                <a:cubicBezTo>
                  <a:pt x="5722" y="15495"/>
                  <a:pt x="5797" y="15403"/>
                  <a:pt x="5581" y="15280"/>
                </a:cubicBezTo>
              </a:path>
              <a:path w="3623" h="3027">
                <a:moveTo>
                  <a:pt x="6424" y="15429"/>
                </a:moveTo>
                <a:cubicBezTo>
                  <a:pt x="6558" y="15402"/>
                  <a:pt x="6681" y="15404"/>
                  <a:pt x="6821" y="15404"/>
                </a:cubicBezTo>
              </a:path>
              <a:path w="3623" h="3027">
                <a:moveTo>
                  <a:pt x="6821" y="15056"/>
                </a:moveTo>
                <a:lnTo>
                  <a:pt x="6821" y="15056"/>
                </a:lnTo>
              </a:path>
              <a:path w="3623" h="3027">
                <a:moveTo>
                  <a:pt x="6747" y="15627"/>
                </a:moveTo>
                <a:lnTo>
                  <a:pt x="6747" y="15627"/>
                </a:lnTo>
              </a:path>
              <a:path w="3623" h="3027">
                <a:moveTo>
                  <a:pt x="7293" y="15156"/>
                </a:moveTo>
                <a:cubicBezTo>
                  <a:pt x="7370" y="15140"/>
                  <a:pt x="7437" y="15118"/>
                  <a:pt x="7516" y="15106"/>
                </a:cubicBezTo>
                <a:cubicBezTo>
                  <a:pt x="7481" y="15291"/>
                  <a:pt x="7422" y="15379"/>
                  <a:pt x="7293" y="15528"/>
                </a:cubicBezTo>
                <a:cubicBezTo>
                  <a:pt x="7386" y="15519"/>
                  <a:pt x="7473" y="15500"/>
                  <a:pt x="7565" y="15478"/>
                </a:cubicBezTo>
              </a:path>
              <a:path w="3623" h="3027">
                <a:moveTo>
                  <a:pt x="6028" y="16073"/>
                </a:moveTo>
                <a:cubicBezTo>
                  <a:pt x="6028" y="16173"/>
                  <a:pt x="6028" y="16206"/>
                  <a:pt x="6028" y="16272"/>
                </a:cubicBezTo>
                <a:cubicBezTo>
                  <a:pt x="6140" y="16262"/>
                  <a:pt x="6219" y="16234"/>
                  <a:pt x="6325" y="16197"/>
                </a:cubicBezTo>
              </a:path>
              <a:path w="3623" h="3027">
                <a:moveTo>
                  <a:pt x="6375" y="15999"/>
                </a:moveTo>
                <a:cubicBezTo>
                  <a:pt x="6324" y="16180"/>
                  <a:pt x="6299" y="16363"/>
                  <a:pt x="6251" y="16545"/>
                </a:cubicBezTo>
              </a:path>
              <a:path w="3623" h="3027">
                <a:moveTo>
                  <a:pt x="6623" y="16049"/>
                </a:moveTo>
                <a:cubicBezTo>
                  <a:pt x="6572" y="16249"/>
                  <a:pt x="6559" y="16268"/>
                  <a:pt x="6648" y="16446"/>
                </a:cubicBezTo>
                <a:cubicBezTo>
                  <a:pt x="6719" y="16428"/>
                  <a:pt x="7050" y="16262"/>
                  <a:pt x="6846" y="16148"/>
                </a:cubicBezTo>
                <a:cubicBezTo>
                  <a:pt x="6722" y="16127"/>
                  <a:pt x="6698" y="16119"/>
                  <a:pt x="6623" y="16123"/>
                </a:cubicBezTo>
              </a:path>
              <a:path w="3623" h="3027">
                <a:moveTo>
                  <a:pt x="6003" y="16842"/>
                </a:moveTo>
                <a:cubicBezTo>
                  <a:pt x="6366" y="16972"/>
                  <a:pt x="6644" y="16989"/>
                  <a:pt x="6995" y="16768"/>
                </a:cubicBezTo>
                <a:cubicBezTo>
                  <a:pt x="7285" y="16586"/>
                  <a:pt x="7505" y="16072"/>
                  <a:pt x="7094" y="15850"/>
                </a:cubicBezTo>
                <a:cubicBezTo>
                  <a:pt x="6752" y="15665"/>
                  <a:pt x="5910" y="15742"/>
                  <a:pt x="5730" y="16148"/>
                </a:cubicBezTo>
                <a:cubicBezTo>
                  <a:pt x="5551" y="16552"/>
                  <a:pt x="5732" y="16725"/>
                  <a:pt x="5953" y="1699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Palatino"/>
              </a:rPr>
              <a:t>Course #1 Objective:  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Palatino"/>
              </a:rPr>
              <a:t>Students will evaluate numeric expressions using the order of operations</a:t>
            </a:r>
            <a:endParaRPr b="1" lang="en-US" sz="28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ow do you remember the Order of Operations?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Remember to always go back to the far left each time you reevaluate the expression.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15 - 9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26" name=""/>
          <p:cNvSpPr/>
          <p:nvPr/>
        </p:nvSpPr>
        <p:spPr>
          <a:xfrm>
            <a:off x="8332920" y="1625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87680" y="6823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688" y="18951"/>
                </a:moveTo>
                <a:lnTo>
                  <a:pt x="4688" y="18951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59200" y="4884840"/>
            <a:ext cx="169920" cy="206280"/>
          </a:xfrm>
          <a:custGeom>
            <a:avLst/>
            <a:gdLst/>
            <a:ahLst/>
            <a:rect l="l" t="t" r="r" b="b"/>
            <a:pathLst>
              <a:path w="472" h="572">
                <a:moveTo>
                  <a:pt x="13320" y="13618"/>
                </a:moveTo>
                <a:cubicBezTo>
                  <a:pt x="13278" y="13618"/>
                  <a:pt x="13217" y="13902"/>
                  <a:pt x="13221" y="14064"/>
                </a:cubicBezTo>
                <a:cubicBezTo>
                  <a:pt x="13229" y="14089"/>
                  <a:pt x="13238" y="14114"/>
                  <a:pt x="13246" y="14139"/>
                </a:cubicBezTo>
                <a:cubicBezTo>
                  <a:pt x="13474" y="14075"/>
                  <a:pt x="13596" y="14035"/>
                  <a:pt x="13692" y="13816"/>
                </a:cubicBezTo>
                <a:cubicBezTo>
                  <a:pt x="13534" y="13772"/>
                  <a:pt x="13420" y="13809"/>
                  <a:pt x="13370" y="13990"/>
                </a:cubicBezTo>
                <a:cubicBezTo>
                  <a:pt x="13370" y="14075"/>
                  <a:pt x="13364" y="14095"/>
                  <a:pt x="13395" y="1413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07000" y="5205240"/>
            <a:ext cx="1054080" cy="974880"/>
          </a:xfrm>
          <a:custGeom>
            <a:avLst/>
            <a:gdLst/>
            <a:ahLst/>
            <a:rect l="l" t="t" r="r" b="b"/>
            <a:pathLst>
              <a:path w="2928" h="2705">
                <a:moveTo>
                  <a:pt x="15627" y="14635"/>
                </a:moveTo>
                <a:cubicBezTo>
                  <a:pt x="15607" y="14864"/>
                  <a:pt x="15574" y="15106"/>
                  <a:pt x="15602" y="15329"/>
                </a:cubicBezTo>
              </a:path>
              <a:path w="2928" h="2705">
                <a:moveTo>
                  <a:pt x="16098" y="14536"/>
                </a:moveTo>
                <a:cubicBezTo>
                  <a:pt x="16000" y="14558"/>
                  <a:pt x="15923" y="14583"/>
                  <a:pt x="15875" y="14684"/>
                </a:cubicBezTo>
                <a:cubicBezTo>
                  <a:pt x="15833" y="14808"/>
                  <a:pt x="15825" y="14833"/>
                  <a:pt x="15801" y="14908"/>
                </a:cubicBezTo>
                <a:cubicBezTo>
                  <a:pt x="15906" y="14850"/>
                  <a:pt x="16093" y="14709"/>
                  <a:pt x="16222" y="14808"/>
                </a:cubicBezTo>
                <a:cubicBezTo>
                  <a:pt x="16456" y="14987"/>
                  <a:pt x="16229" y="15220"/>
                  <a:pt x="16024" y="15230"/>
                </a:cubicBezTo>
                <a:cubicBezTo>
                  <a:pt x="15882" y="15210"/>
                  <a:pt x="15835" y="15232"/>
                  <a:pt x="15825" y="15131"/>
                </a:cubicBezTo>
              </a:path>
              <a:path w="2928" h="2705">
                <a:moveTo>
                  <a:pt x="16371" y="14808"/>
                </a:moveTo>
                <a:cubicBezTo>
                  <a:pt x="16464" y="14808"/>
                  <a:pt x="16526" y="14818"/>
                  <a:pt x="16619" y="14833"/>
                </a:cubicBezTo>
              </a:path>
              <a:path w="2928" h="2705">
                <a:moveTo>
                  <a:pt x="17165" y="14660"/>
                </a:moveTo>
                <a:cubicBezTo>
                  <a:pt x="17223" y="14618"/>
                  <a:pt x="17291" y="14497"/>
                  <a:pt x="17165" y="14461"/>
                </a:cubicBezTo>
                <a:cubicBezTo>
                  <a:pt x="16976" y="14407"/>
                  <a:pt x="16935" y="14586"/>
                  <a:pt x="16867" y="14709"/>
                </a:cubicBezTo>
                <a:cubicBezTo>
                  <a:pt x="17031" y="14844"/>
                  <a:pt x="17088" y="14751"/>
                  <a:pt x="17239" y="14610"/>
                </a:cubicBezTo>
                <a:cubicBezTo>
                  <a:pt x="17239" y="14819"/>
                  <a:pt x="17232" y="15023"/>
                  <a:pt x="17214" y="15230"/>
                </a:cubicBezTo>
                <a:cubicBezTo>
                  <a:pt x="17214" y="15222"/>
                  <a:pt x="17214" y="15213"/>
                  <a:pt x="17214" y="15205"/>
                </a:cubicBezTo>
              </a:path>
              <a:path w="2928" h="2705">
                <a:moveTo>
                  <a:pt x="17512" y="14883"/>
                </a:moveTo>
                <a:cubicBezTo>
                  <a:pt x="17603" y="14883"/>
                  <a:pt x="17694" y="14883"/>
                  <a:pt x="17785" y="14883"/>
                </a:cubicBezTo>
              </a:path>
              <a:path w="2928" h="2705">
                <a:moveTo>
                  <a:pt x="17835" y="14536"/>
                </a:moveTo>
                <a:cubicBezTo>
                  <a:pt x="17805" y="14654"/>
                  <a:pt x="17775" y="14784"/>
                  <a:pt x="17785" y="14908"/>
                </a:cubicBezTo>
                <a:cubicBezTo>
                  <a:pt x="17801" y="15101"/>
                  <a:pt x="17833" y="15226"/>
                  <a:pt x="18058" y="15180"/>
                </a:cubicBezTo>
                <a:cubicBezTo>
                  <a:pt x="18196" y="15152"/>
                  <a:pt x="18283" y="15041"/>
                  <a:pt x="18355" y="14932"/>
                </a:cubicBezTo>
                <a:cubicBezTo>
                  <a:pt x="18221" y="14903"/>
                  <a:pt x="18200" y="14968"/>
                  <a:pt x="18182" y="15106"/>
                </a:cubicBezTo>
                <a:cubicBezTo>
                  <a:pt x="18182" y="15179"/>
                  <a:pt x="18181" y="15202"/>
                  <a:pt x="18231" y="15230"/>
                </a:cubicBezTo>
              </a:path>
              <a:path w="2928" h="2705">
                <a:moveTo>
                  <a:pt x="16297" y="15304"/>
                </a:moveTo>
                <a:cubicBezTo>
                  <a:pt x="16282" y="15417"/>
                  <a:pt x="16272" y="15513"/>
                  <a:pt x="16272" y="15627"/>
                </a:cubicBezTo>
                <a:cubicBezTo>
                  <a:pt x="16469" y="15561"/>
                  <a:pt x="16655" y="15511"/>
                  <a:pt x="16867" y="15528"/>
                </a:cubicBezTo>
                <a:cubicBezTo>
                  <a:pt x="16950" y="15535"/>
                  <a:pt x="17013" y="15586"/>
                  <a:pt x="17090" y="15602"/>
                </a:cubicBezTo>
                <a:cubicBezTo>
                  <a:pt x="17090" y="15495"/>
                  <a:pt x="17090" y="15387"/>
                  <a:pt x="17090" y="15280"/>
                </a:cubicBezTo>
              </a:path>
              <a:path w="2928" h="2705">
                <a:moveTo>
                  <a:pt x="16966" y="15825"/>
                </a:moveTo>
                <a:cubicBezTo>
                  <a:pt x="16996" y="15616"/>
                  <a:pt x="16880" y="15943"/>
                  <a:pt x="16867" y="15999"/>
                </a:cubicBezTo>
                <a:cubicBezTo>
                  <a:pt x="16849" y="16073"/>
                  <a:pt x="16868" y="16133"/>
                  <a:pt x="16892" y="16197"/>
                </a:cubicBezTo>
                <a:cubicBezTo>
                  <a:pt x="17038" y="16208"/>
                  <a:pt x="17197" y="16162"/>
                  <a:pt x="17314" y="16049"/>
                </a:cubicBezTo>
                <a:cubicBezTo>
                  <a:pt x="17330" y="16024"/>
                  <a:pt x="17347" y="15999"/>
                  <a:pt x="17363" y="15974"/>
                </a:cubicBezTo>
                <a:cubicBezTo>
                  <a:pt x="17222" y="15952"/>
                  <a:pt x="17107" y="15997"/>
                  <a:pt x="17090" y="16173"/>
                </a:cubicBezTo>
                <a:cubicBezTo>
                  <a:pt x="17098" y="16198"/>
                  <a:pt x="17107" y="16222"/>
                  <a:pt x="17115" y="16247"/>
                </a:cubicBezTo>
              </a:path>
              <a:path w="2928" h="2705">
                <a:moveTo>
                  <a:pt x="17587" y="15925"/>
                </a:moveTo>
                <a:cubicBezTo>
                  <a:pt x="17660" y="15925"/>
                  <a:pt x="17723" y="15927"/>
                  <a:pt x="17785" y="15900"/>
                </a:cubicBezTo>
              </a:path>
              <a:path w="2928" h="2705">
                <a:moveTo>
                  <a:pt x="18157" y="15677"/>
                </a:moveTo>
                <a:cubicBezTo>
                  <a:pt x="18119" y="15798"/>
                  <a:pt x="18048" y="15950"/>
                  <a:pt x="18107" y="16073"/>
                </a:cubicBezTo>
                <a:cubicBezTo>
                  <a:pt x="18185" y="16235"/>
                  <a:pt x="18360" y="16048"/>
                  <a:pt x="18430" y="15999"/>
                </a:cubicBezTo>
                <a:cubicBezTo>
                  <a:pt x="18473" y="15977"/>
                  <a:pt x="18485" y="15973"/>
                  <a:pt x="18504" y="15949"/>
                </a:cubicBezTo>
                <a:cubicBezTo>
                  <a:pt x="18430" y="15888"/>
                  <a:pt x="18344" y="15930"/>
                  <a:pt x="18306" y="16049"/>
                </a:cubicBezTo>
                <a:cubicBezTo>
                  <a:pt x="18306" y="16065"/>
                  <a:pt x="18306" y="16082"/>
                  <a:pt x="18306" y="16098"/>
                </a:cubicBezTo>
              </a:path>
              <a:path w="2928" h="2705">
                <a:moveTo>
                  <a:pt x="17363" y="16297"/>
                </a:moveTo>
                <a:cubicBezTo>
                  <a:pt x="17339" y="16377"/>
                  <a:pt x="17328" y="16461"/>
                  <a:pt x="17314" y="16545"/>
                </a:cubicBezTo>
                <a:cubicBezTo>
                  <a:pt x="17577" y="16562"/>
                  <a:pt x="17846" y="16514"/>
                  <a:pt x="18107" y="16570"/>
                </a:cubicBezTo>
                <a:cubicBezTo>
                  <a:pt x="18209" y="16592"/>
                  <a:pt x="18208" y="16612"/>
                  <a:pt x="18231" y="16421"/>
                </a:cubicBezTo>
                <a:cubicBezTo>
                  <a:pt x="18231" y="16297"/>
                  <a:pt x="18231" y="16272"/>
                  <a:pt x="18231" y="16197"/>
                </a:cubicBezTo>
              </a:path>
              <a:path w="2928" h="2705">
                <a:moveTo>
                  <a:pt x="17934" y="16793"/>
                </a:moveTo>
                <a:cubicBezTo>
                  <a:pt x="17830" y="16754"/>
                  <a:pt x="17765" y="16810"/>
                  <a:pt x="17711" y="16917"/>
                </a:cubicBezTo>
                <a:cubicBezTo>
                  <a:pt x="17655" y="17029"/>
                  <a:pt x="17670" y="17068"/>
                  <a:pt x="17711" y="17165"/>
                </a:cubicBezTo>
                <a:cubicBezTo>
                  <a:pt x="17876" y="17152"/>
                  <a:pt x="17939" y="17108"/>
                  <a:pt x="18033" y="16966"/>
                </a:cubicBezTo>
                <a:cubicBezTo>
                  <a:pt x="18105" y="16857"/>
                  <a:pt x="17966" y="16807"/>
                  <a:pt x="17884" y="16793"/>
                </a:cubicBezTo>
                <a:cubicBezTo>
                  <a:pt x="17876" y="16793"/>
                  <a:pt x="17867" y="16793"/>
                  <a:pt x="17859" y="1679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Palatino"/>
              </a:rPr>
              <a:t>Course #1 Objective:  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Palatino"/>
              </a:rPr>
              <a:t>Students will evaluate numeric expressions using the order of operations</a:t>
            </a:r>
            <a:endParaRPr b="1" lang="en-US" sz="28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Symbols: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Multiplicati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Division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34" name=""/>
          <p:cNvSpPr/>
          <p:nvPr/>
        </p:nvSpPr>
        <p:spPr>
          <a:xfrm>
            <a:off x="1089000" y="3232080"/>
            <a:ext cx="519120" cy="241200"/>
          </a:xfrm>
          <a:custGeom>
            <a:avLst/>
            <a:gdLst/>
            <a:ahLst/>
            <a:rect l="l" t="t" r="r" b="b"/>
            <a:pathLst>
              <a:path w="1440" h="671">
                <a:moveTo>
                  <a:pt x="3299" y="9103"/>
                </a:moveTo>
                <a:cubicBezTo>
                  <a:pt x="3126" y="9103"/>
                  <a:pt x="3357" y="9061"/>
                  <a:pt x="3398" y="9054"/>
                </a:cubicBezTo>
                <a:cubicBezTo>
                  <a:pt x="3415" y="9054"/>
                  <a:pt x="3431" y="9054"/>
                  <a:pt x="3448" y="9054"/>
                </a:cubicBezTo>
                <a:cubicBezTo>
                  <a:pt x="3504" y="9166"/>
                  <a:pt x="3481" y="9257"/>
                  <a:pt x="3349" y="9327"/>
                </a:cubicBezTo>
                <a:cubicBezTo>
                  <a:pt x="3324" y="9335"/>
                  <a:pt x="3299" y="9343"/>
                  <a:pt x="3274" y="9351"/>
                </a:cubicBezTo>
                <a:cubicBezTo>
                  <a:pt x="3355" y="9298"/>
                  <a:pt x="3556" y="9267"/>
                  <a:pt x="3497" y="9451"/>
                </a:cubicBezTo>
                <a:cubicBezTo>
                  <a:pt x="3446" y="9609"/>
                  <a:pt x="3192" y="9697"/>
                  <a:pt x="3051" y="9624"/>
                </a:cubicBezTo>
                <a:cubicBezTo>
                  <a:pt x="3043" y="9608"/>
                  <a:pt x="3034" y="9591"/>
                  <a:pt x="3026" y="9575"/>
                </a:cubicBezTo>
              </a:path>
              <a:path w="1440" h="671">
                <a:moveTo>
                  <a:pt x="3845" y="9327"/>
                </a:moveTo>
                <a:cubicBezTo>
                  <a:pt x="3760" y="9259"/>
                  <a:pt x="3733" y="9279"/>
                  <a:pt x="3746" y="9376"/>
                </a:cubicBezTo>
                <a:cubicBezTo>
                  <a:pt x="3787" y="9376"/>
                  <a:pt x="3925" y="9352"/>
                  <a:pt x="3870" y="9277"/>
                </a:cubicBezTo>
                <a:cubicBezTo>
                  <a:pt x="3799" y="9179"/>
                  <a:pt x="3711" y="9356"/>
                  <a:pt x="3746" y="9376"/>
                </a:cubicBezTo>
                <a:cubicBezTo>
                  <a:pt x="3771" y="9376"/>
                  <a:pt x="3795" y="9376"/>
                  <a:pt x="3820" y="9376"/>
                </a:cubicBezTo>
                <a:cubicBezTo>
                  <a:pt x="3901" y="9243"/>
                  <a:pt x="3754" y="9332"/>
                  <a:pt x="3770" y="9351"/>
                </a:cubicBezTo>
                <a:cubicBezTo>
                  <a:pt x="3811" y="9351"/>
                  <a:pt x="3828" y="9360"/>
                  <a:pt x="3820" y="9327"/>
                </a:cubicBezTo>
              </a:path>
              <a:path w="1440" h="671">
                <a:moveTo>
                  <a:pt x="4118" y="9079"/>
                </a:moveTo>
                <a:cubicBezTo>
                  <a:pt x="4110" y="9158"/>
                  <a:pt x="4091" y="9226"/>
                  <a:pt x="4068" y="9302"/>
                </a:cubicBezTo>
                <a:cubicBezTo>
                  <a:pt x="4184" y="9302"/>
                  <a:pt x="4299" y="9302"/>
                  <a:pt x="4415" y="9302"/>
                </a:cubicBezTo>
              </a:path>
              <a:path w="1440" h="671">
                <a:moveTo>
                  <a:pt x="4440" y="8979"/>
                </a:moveTo>
                <a:cubicBezTo>
                  <a:pt x="4470" y="9146"/>
                  <a:pt x="4455" y="9284"/>
                  <a:pt x="4440" y="9451"/>
                </a:cubicBezTo>
                <a:cubicBezTo>
                  <a:pt x="4440" y="9517"/>
                  <a:pt x="4440" y="9534"/>
                  <a:pt x="4440" y="95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35080" y="3170160"/>
            <a:ext cx="457200" cy="241200"/>
          </a:xfrm>
          <a:custGeom>
            <a:avLst/>
            <a:gdLst/>
            <a:ahLst/>
            <a:rect l="l" t="t" r="r" b="b"/>
            <a:pathLst>
              <a:path w="1267" h="670">
                <a:moveTo>
                  <a:pt x="5705" y="8905"/>
                </a:moveTo>
                <a:cubicBezTo>
                  <a:pt x="5757" y="8870"/>
                  <a:pt x="5792" y="8862"/>
                  <a:pt x="5854" y="8855"/>
                </a:cubicBezTo>
                <a:cubicBezTo>
                  <a:pt x="5920" y="8965"/>
                  <a:pt x="5927" y="9028"/>
                  <a:pt x="5804" y="9103"/>
                </a:cubicBezTo>
                <a:cubicBezTo>
                  <a:pt x="5788" y="9111"/>
                  <a:pt x="5771" y="9120"/>
                  <a:pt x="5755" y="9128"/>
                </a:cubicBezTo>
                <a:cubicBezTo>
                  <a:pt x="5859" y="9163"/>
                  <a:pt x="6012" y="9203"/>
                  <a:pt x="5928" y="9351"/>
                </a:cubicBezTo>
                <a:cubicBezTo>
                  <a:pt x="5871" y="9452"/>
                  <a:pt x="5754" y="9451"/>
                  <a:pt x="5655" y="9475"/>
                </a:cubicBezTo>
              </a:path>
              <a:path w="1267" h="670">
                <a:moveTo>
                  <a:pt x="6201" y="9079"/>
                </a:moveTo>
                <a:cubicBezTo>
                  <a:pt x="6201" y="8956"/>
                  <a:pt x="6206" y="9177"/>
                  <a:pt x="6201" y="9227"/>
                </a:cubicBezTo>
              </a:path>
              <a:path w="1267" h="670">
                <a:moveTo>
                  <a:pt x="6052" y="9128"/>
                </a:moveTo>
                <a:cubicBezTo>
                  <a:pt x="6136" y="9135"/>
                  <a:pt x="6215" y="9153"/>
                  <a:pt x="6300" y="9153"/>
                </a:cubicBezTo>
              </a:path>
              <a:path w="1267" h="670">
                <a:moveTo>
                  <a:pt x="6325" y="9054"/>
                </a:moveTo>
                <a:cubicBezTo>
                  <a:pt x="6274" y="9116"/>
                  <a:pt x="6238" y="9152"/>
                  <a:pt x="6176" y="9203"/>
                </a:cubicBezTo>
              </a:path>
              <a:path w="1267" h="670">
                <a:moveTo>
                  <a:pt x="6077" y="9054"/>
                </a:moveTo>
                <a:cubicBezTo>
                  <a:pt x="6155" y="9121"/>
                  <a:pt x="6208" y="9177"/>
                  <a:pt x="6276" y="9252"/>
                </a:cubicBezTo>
              </a:path>
              <a:path w="1267" h="670">
                <a:moveTo>
                  <a:pt x="6623" y="8855"/>
                </a:moveTo>
                <a:cubicBezTo>
                  <a:pt x="6598" y="8945"/>
                  <a:pt x="6598" y="9032"/>
                  <a:pt x="6598" y="9128"/>
                </a:cubicBezTo>
                <a:cubicBezTo>
                  <a:pt x="6693" y="9134"/>
                  <a:pt x="6776" y="9153"/>
                  <a:pt x="6871" y="9153"/>
                </a:cubicBezTo>
              </a:path>
              <a:path w="1267" h="670">
                <a:moveTo>
                  <a:pt x="6921" y="8806"/>
                </a:moveTo>
                <a:cubicBezTo>
                  <a:pt x="6886" y="8963"/>
                  <a:pt x="6850" y="9117"/>
                  <a:pt x="6846" y="9277"/>
                </a:cubicBezTo>
                <a:cubicBezTo>
                  <a:pt x="6846" y="9351"/>
                  <a:pt x="6846" y="9360"/>
                  <a:pt x="6846" y="940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90880" y="3152880"/>
            <a:ext cx="519120" cy="295200"/>
          </a:xfrm>
          <a:custGeom>
            <a:avLst/>
            <a:gdLst/>
            <a:ahLst/>
            <a:rect l="l" t="t" r="r" b="b"/>
            <a:pathLst>
              <a:path w="1439" h="820">
                <a:moveTo>
                  <a:pt x="8533" y="8954"/>
                </a:moveTo>
                <a:cubicBezTo>
                  <a:pt x="8586" y="8862"/>
                  <a:pt x="8629" y="8887"/>
                  <a:pt x="8756" y="8880"/>
                </a:cubicBezTo>
                <a:cubicBezTo>
                  <a:pt x="8795" y="9014"/>
                  <a:pt x="8742" y="9259"/>
                  <a:pt x="8533" y="9277"/>
                </a:cubicBezTo>
                <a:cubicBezTo>
                  <a:pt x="8525" y="9260"/>
                  <a:pt x="8516" y="9244"/>
                  <a:pt x="8508" y="9227"/>
                </a:cubicBezTo>
                <a:cubicBezTo>
                  <a:pt x="8640" y="9202"/>
                  <a:pt x="8801" y="9216"/>
                  <a:pt x="8731" y="9401"/>
                </a:cubicBezTo>
                <a:cubicBezTo>
                  <a:pt x="8653" y="9609"/>
                  <a:pt x="8453" y="9585"/>
                  <a:pt x="8310" y="9500"/>
                </a:cubicBezTo>
              </a:path>
              <a:path w="1439" h="820">
                <a:moveTo>
                  <a:pt x="8880" y="9054"/>
                </a:moveTo>
                <a:cubicBezTo>
                  <a:pt x="8982" y="9164"/>
                  <a:pt x="9065" y="9266"/>
                  <a:pt x="9128" y="9401"/>
                </a:cubicBezTo>
              </a:path>
              <a:path w="1439" h="820">
                <a:moveTo>
                  <a:pt x="9153" y="9054"/>
                </a:moveTo>
                <a:cubicBezTo>
                  <a:pt x="9097" y="9204"/>
                  <a:pt x="9043" y="9318"/>
                  <a:pt x="8954" y="9451"/>
                </a:cubicBezTo>
              </a:path>
              <a:path w="1439" h="820">
                <a:moveTo>
                  <a:pt x="9401" y="9004"/>
                </a:moveTo>
                <a:cubicBezTo>
                  <a:pt x="9409" y="9125"/>
                  <a:pt x="9430" y="9108"/>
                  <a:pt x="9351" y="9203"/>
                </a:cubicBezTo>
                <a:cubicBezTo>
                  <a:pt x="9475" y="9210"/>
                  <a:pt x="9571" y="9178"/>
                  <a:pt x="9699" y="9178"/>
                </a:cubicBezTo>
                <a:cubicBezTo>
                  <a:pt x="9707" y="9178"/>
                  <a:pt x="9715" y="9178"/>
                  <a:pt x="9723" y="9178"/>
                </a:cubicBezTo>
              </a:path>
              <a:path w="1439" h="820">
                <a:moveTo>
                  <a:pt x="9748" y="8756"/>
                </a:moveTo>
                <a:cubicBezTo>
                  <a:pt x="9702" y="8952"/>
                  <a:pt x="9723" y="9141"/>
                  <a:pt x="9723" y="9351"/>
                </a:cubicBezTo>
                <a:cubicBezTo>
                  <a:pt x="9723" y="9459"/>
                  <a:pt x="9723" y="9467"/>
                  <a:pt x="9723" y="95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1960" y="2732040"/>
            <a:ext cx="696960" cy="760320"/>
          </a:xfrm>
          <a:custGeom>
            <a:avLst/>
            <a:gdLst/>
            <a:ahLst/>
            <a:rect l="l" t="t" r="r" b="b"/>
            <a:pathLst>
              <a:path w="1936" h="2110">
                <a:moveTo>
                  <a:pt x="11956" y="7665"/>
                </a:moveTo>
                <a:cubicBezTo>
                  <a:pt x="11804" y="7834"/>
                  <a:pt x="11640" y="7987"/>
                  <a:pt x="11683" y="8235"/>
                </a:cubicBezTo>
                <a:cubicBezTo>
                  <a:pt x="11698" y="8322"/>
                  <a:pt x="11791" y="8401"/>
                  <a:pt x="11857" y="8434"/>
                </a:cubicBezTo>
              </a:path>
              <a:path w="1936" h="2110">
                <a:moveTo>
                  <a:pt x="12849" y="7590"/>
                </a:moveTo>
                <a:cubicBezTo>
                  <a:pt x="12930" y="7801"/>
                  <a:pt x="12958" y="7949"/>
                  <a:pt x="12849" y="8161"/>
                </a:cubicBezTo>
                <a:cubicBezTo>
                  <a:pt x="12816" y="8226"/>
                  <a:pt x="12747" y="8322"/>
                  <a:pt x="12700" y="8384"/>
                </a:cubicBezTo>
                <a:cubicBezTo>
                  <a:pt x="12692" y="8392"/>
                  <a:pt x="12683" y="8401"/>
                  <a:pt x="12675" y="8409"/>
                </a:cubicBezTo>
              </a:path>
              <a:path w="1936" h="2110">
                <a:moveTo>
                  <a:pt x="11485" y="8954"/>
                </a:moveTo>
                <a:cubicBezTo>
                  <a:pt x="11570" y="8917"/>
                  <a:pt x="11614" y="8911"/>
                  <a:pt x="11708" y="8905"/>
                </a:cubicBezTo>
                <a:cubicBezTo>
                  <a:pt x="11768" y="9055"/>
                  <a:pt x="11764" y="9083"/>
                  <a:pt x="11609" y="9153"/>
                </a:cubicBezTo>
                <a:cubicBezTo>
                  <a:pt x="11544" y="9175"/>
                  <a:pt x="11529" y="9183"/>
                  <a:pt x="11485" y="9178"/>
                </a:cubicBezTo>
                <a:cubicBezTo>
                  <a:pt x="11615" y="9159"/>
                  <a:pt x="11815" y="9155"/>
                  <a:pt x="11782" y="9351"/>
                </a:cubicBezTo>
                <a:cubicBezTo>
                  <a:pt x="11746" y="9565"/>
                  <a:pt x="11454" y="9499"/>
                  <a:pt x="11311" y="9475"/>
                </a:cubicBezTo>
              </a:path>
              <a:path w="1936" h="2110">
                <a:moveTo>
                  <a:pt x="12229" y="8781"/>
                </a:moveTo>
                <a:cubicBezTo>
                  <a:pt x="12098" y="8976"/>
                  <a:pt x="12007" y="9139"/>
                  <a:pt x="11981" y="9376"/>
                </a:cubicBezTo>
                <a:cubicBezTo>
                  <a:pt x="11959" y="9577"/>
                  <a:pt x="12066" y="9636"/>
                  <a:pt x="12229" y="9699"/>
                </a:cubicBezTo>
              </a:path>
              <a:path w="1936" h="2110">
                <a:moveTo>
                  <a:pt x="12477" y="9004"/>
                </a:moveTo>
                <a:cubicBezTo>
                  <a:pt x="12464" y="9090"/>
                  <a:pt x="12443" y="9146"/>
                  <a:pt x="12402" y="9227"/>
                </a:cubicBezTo>
                <a:cubicBezTo>
                  <a:pt x="12523" y="9227"/>
                  <a:pt x="12613" y="9232"/>
                  <a:pt x="12725" y="9277"/>
                </a:cubicBezTo>
              </a:path>
              <a:path w="1936" h="2110">
                <a:moveTo>
                  <a:pt x="12725" y="9004"/>
                </a:moveTo>
                <a:cubicBezTo>
                  <a:pt x="12725" y="9153"/>
                  <a:pt x="12725" y="9302"/>
                  <a:pt x="12725" y="9451"/>
                </a:cubicBezTo>
              </a:path>
              <a:path w="1936" h="2110">
                <a:moveTo>
                  <a:pt x="12898" y="8657"/>
                </a:moveTo>
                <a:cubicBezTo>
                  <a:pt x="13062" y="8657"/>
                  <a:pt x="13070" y="8737"/>
                  <a:pt x="13146" y="8880"/>
                </a:cubicBezTo>
                <a:cubicBezTo>
                  <a:pt x="13260" y="9095"/>
                  <a:pt x="13253" y="9268"/>
                  <a:pt x="13196" y="9500"/>
                </a:cubicBezTo>
                <a:cubicBezTo>
                  <a:pt x="13168" y="9615"/>
                  <a:pt x="13126" y="9624"/>
                  <a:pt x="13022" y="962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98720" y="5724360"/>
            <a:ext cx="9360" cy="17640"/>
          </a:xfrm>
          <a:custGeom>
            <a:avLst/>
            <a:gdLst/>
            <a:ahLst/>
            <a:rect l="l" t="t" r="r" b="b"/>
            <a:pathLst>
              <a:path w="26" h="50">
                <a:moveTo>
                  <a:pt x="3051" y="15900"/>
                </a:moveTo>
                <a:cubicBezTo>
                  <a:pt x="3059" y="15916"/>
                  <a:pt x="3068" y="15933"/>
                  <a:pt x="3076" y="159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89000" y="4795920"/>
            <a:ext cx="785880" cy="303120"/>
          </a:xfrm>
          <a:custGeom>
            <a:avLst/>
            <a:gdLst/>
            <a:ahLst/>
            <a:rect l="l" t="t" r="r" b="b"/>
            <a:pathLst>
              <a:path w="2184" h="844">
                <a:moveTo>
                  <a:pt x="3026" y="13395"/>
                </a:moveTo>
                <a:cubicBezTo>
                  <a:pt x="3049" y="13603"/>
                  <a:pt x="3051" y="13805"/>
                  <a:pt x="3051" y="14015"/>
                </a:cubicBezTo>
                <a:cubicBezTo>
                  <a:pt x="3051" y="14023"/>
                  <a:pt x="3051" y="14031"/>
                  <a:pt x="3051" y="14039"/>
                </a:cubicBezTo>
              </a:path>
              <a:path w="2184" h="844">
                <a:moveTo>
                  <a:pt x="3274" y="13419"/>
                </a:moveTo>
                <a:cubicBezTo>
                  <a:pt x="3333" y="13371"/>
                  <a:pt x="3379" y="13349"/>
                  <a:pt x="3448" y="13320"/>
                </a:cubicBezTo>
                <a:cubicBezTo>
                  <a:pt x="3570" y="13454"/>
                  <a:pt x="3609" y="13605"/>
                  <a:pt x="3522" y="13791"/>
                </a:cubicBezTo>
                <a:cubicBezTo>
                  <a:pt x="3460" y="13924"/>
                  <a:pt x="3346" y="14034"/>
                  <a:pt x="3274" y="14163"/>
                </a:cubicBezTo>
                <a:cubicBezTo>
                  <a:pt x="3300" y="14115"/>
                  <a:pt x="3379" y="13904"/>
                  <a:pt x="3473" y="13940"/>
                </a:cubicBezTo>
                <a:cubicBezTo>
                  <a:pt x="3613" y="13994"/>
                  <a:pt x="3604" y="14107"/>
                  <a:pt x="3770" y="14064"/>
                </a:cubicBezTo>
                <a:cubicBezTo>
                  <a:pt x="3795" y="14056"/>
                  <a:pt x="3820" y="14047"/>
                  <a:pt x="3845" y="14039"/>
                </a:cubicBezTo>
              </a:path>
              <a:path w="2184" h="844">
                <a:moveTo>
                  <a:pt x="3994" y="13742"/>
                </a:moveTo>
                <a:cubicBezTo>
                  <a:pt x="4137" y="13742"/>
                  <a:pt x="4273" y="13722"/>
                  <a:pt x="4415" y="13717"/>
                </a:cubicBezTo>
                <a:cubicBezTo>
                  <a:pt x="4432" y="13717"/>
                  <a:pt x="4448" y="13717"/>
                  <a:pt x="4465" y="13717"/>
                </a:cubicBezTo>
              </a:path>
              <a:path w="2184" h="844">
                <a:moveTo>
                  <a:pt x="4242" y="13395"/>
                </a:moveTo>
                <a:lnTo>
                  <a:pt x="4242" y="13395"/>
                </a:lnTo>
              </a:path>
              <a:path w="2184" h="844">
                <a:moveTo>
                  <a:pt x="4217" y="14114"/>
                </a:moveTo>
                <a:lnTo>
                  <a:pt x="4217" y="14114"/>
                </a:lnTo>
              </a:path>
              <a:path w="2184" h="844">
                <a:moveTo>
                  <a:pt x="4787" y="13469"/>
                </a:moveTo>
                <a:cubicBezTo>
                  <a:pt x="4828" y="13374"/>
                  <a:pt x="4841" y="13341"/>
                  <a:pt x="4961" y="13320"/>
                </a:cubicBezTo>
                <a:cubicBezTo>
                  <a:pt x="5027" y="13320"/>
                  <a:pt x="5044" y="13320"/>
                  <a:pt x="5085" y="13320"/>
                </a:cubicBezTo>
                <a:cubicBezTo>
                  <a:pt x="5077" y="13466"/>
                  <a:pt x="5070" y="13592"/>
                  <a:pt x="4986" y="13717"/>
                </a:cubicBezTo>
                <a:cubicBezTo>
                  <a:pt x="4923" y="13811"/>
                  <a:pt x="4853" y="13901"/>
                  <a:pt x="4787" y="13990"/>
                </a:cubicBezTo>
                <a:cubicBezTo>
                  <a:pt x="4746" y="14045"/>
                  <a:pt x="4719" y="14103"/>
                  <a:pt x="4688" y="14163"/>
                </a:cubicBezTo>
                <a:cubicBezTo>
                  <a:pt x="4752" y="14057"/>
                  <a:pt x="4804" y="14000"/>
                  <a:pt x="4911" y="13940"/>
                </a:cubicBezTo>
                <a:cubicBezTo>
                  <a:pt x="5025" y="14095"/>
                  <a:pt x="5003" y="14118"/>
                  <a:pt x="5184" y="14089"/>
                </a:cubicBezTo>
                <a:cubicBezTo>
                  <a:pt x="5192" y="14089"/>
                  <a:pt x="5201" y="14089"/>
                  <a:pt x="5209" y="1408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74920" y="4697280"/>
            <a:ext cx="536400" cy="446400"/>
          </a:xfrm>
          <a:custGeom>
            <a:avLst/>
            <a:gdLst/>
            <a:ahLst/>
            <a:rect l="l" t="t" r="r" b="b"/>
            <a:pathLst>
              <a:path w="1489" h="1242">
                <a:moveTo>
                  <a:pt x="6648" y="13494"/>
                </a:moveTo>
                <a:cubicBezTo>
                  <a:pt x="6632" y="13606"/>
                  <a:pt x="6602" y="13717"/>
                  <a:pt x="6598" y="13841"/>
                </a:cubicBezTo>
                <a:cubicBezTo>
                  <a:pt x="6598" y="13858"/>
                  <a:pt x="6598" y="13874"/>
                  <a:pt x="6598" y="13891"/>
                </a:cubicBezTo>
              </a:path>
              <a:path w="1489" h="1242">
                <a:moveTo>
                  <a:pt x="6846" y="13568"/>
                </a:moveTo>
                <a:cubicBezTo>
                  <a:pt x="6885" y="13524"/>
                  <a:pt x="7001" y="13400"/>
                  <a:pt x="7069" y="13494"/>
                </a:cubicBezTo>
                <a:cubicBezTo>
                  <a:pt x="7152" y="13608"/>
                  <a:pt x="7032" y="13748"/>
                  <a:pt x="6945" y="13816"/>
                </a:cubicBezTo>
                <a:cubicBezTo>
                  <a:pt x="6904" y="13848"/>
                  <a:pt x="6794" y="13865"/>
                  <a:pt x="6846" y="13891"/>
                </a:cubicBezTo>
                <a:cubicBezTo>
                  <a:pt x="6973" y="13881"/>
                  <a:pt x="7068" y="13875"/>
                  <a:pt x="7193" y="13891"/>
                </a:cubicBezTo>
                <a:cubicBezTo>
                  <a:pt x="7210" y="13891"/>
                  <a:pt x="7226" y="13891"/>
                  <a:pt x="7243" y="13891"/>
                </a:cubicBezTo>
              </a:path>
              <a:path w="1489" h="1242">
                <a:moveTo>
                  <a:pt x="7541" y="13047"/>
                </a:moveTo>
                <a:cubicBezTo>
                  <a:pt x="7433" y="13263"/>
                  <a:pt x="7396" y="13593"/>
                  <a:pt x="7342" y="13841"/>
                </a:cubicBezTo>
                <a:cubicBezTo>
                  <a:pt x="7306" y="14008"/>
                  <a:pt x="7282" y="14135"/>
                  <a:pt x="7218" y="14288"/>
                </a:cubicBezTo>
              </a:path>
              <a:path w="1489" h="1242">
                <a:moveTo>
                  <a:pt x="7714" y="13618"/>
                </a:moveTo>
                <a:cubicBezTo>
                  <a:pt x="7726" y="13525"/>
                  <a:pt x="7734" y="13531"/>
                  <a:pt x="7813" y="13494"/>
                </a:cubicBezTo>
                <a:cubicBezTo>
                  <a:pt x="7830" y="13486"/>
                  <a:pt x="7846" y="13477"/>
                  <a:pt x="7863" y="13469"/>
                </a:cubicBezTo>
                <a:cubicBezTo>
                  <a:pt x="7885" y="13513"/>
                  <a:pt x="7955" y="13592"/>
                  <a:pt x="7938" y="13643"/>
                </a:cubicBezTo>
                <a:cubicBezTo>
                  <a:pt x="7909" y="13728"/>
                  <a:pt x="7830" y="13750"/>
                  <a:pt x="7764" y="13791"/>
                </a:cubicBezTo>
                <a:cubicBezTo>
                  <a:pt x="7716" y="13821"/>
                  <a:pt x="7631" y="13881"/>
                  <a:pt x="7615" y="13940"/>
                </a:cubicBezTo>
                <a:cubicBezTo>
                  <a:pt x="7590" y="14033"/>
                  <a:pt x="7661" y="13901"/>
                  <a:pt x="7714" y="13866"/>
                </a:cubicBezTo>
                <a:cubicBezTo>
                  <a:pt x="7794" y="13813"/>
                  <a:pt x="7881" y="13871"/>
                  <a:pt x="7962" y="13891"/>
                </a:cubicBezTo>
                <a:cubicBezTo>
                  <a:pt x="8029" y="13913"/>
                  <a:pt x="8047" y="13924"/>
                  <a:pt x="8086" y="1389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4732200"/>
            <a:ext cx="428760" cy="492120"/>
          </a:xfrm>
          <a:custGeom>
            <a:avLst/>
            <a:gdLst/>
            <a:ahLst/>
            <a:rect l="l" t="t" r="r" b="b"/>
            <a:pathLst>
              <a:path w="1191" h="1366">
                <a:moveTo>
                  <a:pt x="10096" y="13320"/>
                </a:moveTo>
                <a:cubicBezTo>
                  <a:pt x="10188" y="13454"/>
                  <a:pt x="10170" y="13578"/>
                  <a:pt x="10170" y="13742"/>
                </a:cubicBezTo>
                <a:cubicBezTo>
                  <a:pt x="10170" y="13758"/>
                  <a:pt x="10170" y="13775"/>
                  <a:pt x="10170" y="13791"/>
                </a:cubicBezTo>
              </a:path>
              <a:path w="1191" h="1366">
                <a:moveTo>
                  <a:pt x="10517" y="13221"/>
                </a:moveTo>
                <a:cubicBezTo>
                  <a:pt x="10511" y="13272"/>
                  <a:pt x="10500" y="13319"/>
                  <a:pt x="10492" y="13370"/>
                </a:cubicBezTo>
                <a:cubicBezTo>
                  <a:pt x="10501" y="13269"/>
                  <a:pt x="10495" y="13229"/>
                  <a:pt x="10567" y="13196"/>
                </a:cubicBezTo>
                <a:cubicBezTo>
                  <a:pt x="10655" y="13152"/>
                  <a:pt x="10676" y="13135"/>
                  <a:pt x="10740" y="13146"/>
                </a:cubicBezTo>
                <a:cubicBezTo>
                  <a:pt x="10802" y="13285"/>
                  <a:pt x="10791" y="13364"/>
                  <a:pt x="10691" y="13494"/>
                </a:cubicBezTo>
                <a:cubicBezTo>
                  <a:pt x="10623" y="13583"/>
                  <a:pt x="10554" y="13835"/>
                  <a:pt x="10492" y="13742"/>
                </a:cubicBezTo>
                <a:cubicBezTo>
                  <a:pt x="10450" y="13679"/>
                  <a:pt x="10658" y="13547"/>
                  <a:pt x="10691" y="13568"/>
                </a:cubicBezTo>
                <a:cubicBezTo>
                  <a:pt x="10833" y="13657"/>
                  <a:pt x="10805" y="13696"/>
                  <a:pt x="10988" y="13618"/>
                </a:cubicBezTo>
              </a:path>
              <a:path w="1191" h="1366">
                <a:moveTo>
                  <a:pt x="9947" y="13915"/>
                </a:moveTo>
                <a:cubicBezTo>
                  <a:pt x="10225" y="13872"/>
                  <a:pt x="10508" y="13885"/>
                  <a:pt x="10790" y="13866"/>
                </a:cubicBezTo>
                <a:cubicBezTo>
                  <a:pt x="10913" y="13858"/>
                  <a:pt x="11017" y="13841"/>
                  <a:pt x="11137" y="13841"/>
                </a:cubicBezTo>
              </a:path>
              <a:path w="1191" h="1366">
                <a:moveTo>
                  <a:pt x="10542" y="14114"/>
                </a:moveTo>
                <a:cubicBezTo>
                  <a:pt x="10612" y="14084"/>
                  <a:pt x="10648" y="14080"/>
                  <a:pt x="10716" y="14114"/>
                </a:cubicBezTo>
                <a:cubicBezTo>
                  <a:pt x="10729" y="14225"/>
                  <a:pt x="10670" y="14219"/>
                  <a:pt x="10567" y="14263"/>
                </a:cubicBezTo>
                <a:cubicBezTo>
                  <a:pt x="10524" y="14282"/>
                  <a:pt x="10446" y="14323"/>
                  <a:pt x="10418" y="14362"/>
                </a:cubicBezTo>
                <a:cubicBezTo>
                  <a:pt x="10387" y="14406"/>
                  <a:pt x="10376" y="14460"/>
                  <a:pt x="10368" y="14511"/>
                </a:cubicBezTo>
                <a:cubicBezTo>
                  <a:pt x="10412" y="14483"/>
                  <a:pt x="10540" y="14377"/>
                  <a:pt x="10592" y="14387"/>
                </a:cubicBezTo>
                <a:cubicBezTo>
                  <a:pt x="10655" y="14399"/>
                  <a:pt x="10699" y="14471"/>
                  <a:pt x="10765" y="14486"/>
                </a:cubicBezTo>
                <a:cubicBezTo>
                  <a:pt x="10822" y="14486"/>
                  <a:pt x="10843" y="14481"/>
                  <a:pt x="10864" y="144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84800" y="4295880"/>
            <a:ext cx="839520" cy="803160"/>
          </a:xfrm>
          <a:custGeom>
            <a:avLst/>
            <a:gdLst/>
            <a:ahLst/>
            <a:rect l="l" t="t" r="r" b="b"/>
            <a:pathLst>
              <a:path w="2333" h="2233">
                <a:moveTo>
                  <a:pt x="12254" y="12675"/>
                </a:moveTo>
                <a:cubicBezTo>
                  <a:pt x="12254" y="12547"/>
                  <a:pt x="12238" y="12429"/>
                  <a:pt x="12229" y="12303"/>
                </a:cubicBezTo>
                <a:cubicBezTo>
                  <a:pt x="12222" y="12194"/>
                  <a:pt x="12187" y="12108"/>
                  <a:pt x="12179" y="12005"/>
                </a:cubicBezTo>
                <a:cubicBezTo>
                  <a:pt x="12179" y="11997"/>
                  <a:pt x="12179" y="11989"/>
                  <a:pt x="12179" y="11981"/>
                </a:cubicBezTo>
                <a:cubicBezTo>
                  <a:pt x="12364" y="11981"/>
                  <a:pt x="12542" y="11965"/>
                  <a:pt x="12725" y="11956"/>
                </a:cubicBezTo>
                <a:cubicBezTo>
                  <a:pt x="12916" y="11947"/>
                  <a:pt x="13106" y="11938"/>
                  <a:pt x="13295" y="11931"/>
                </a:cubicBezTo>
                <a:cubicBezTo>
                  <a:pt x="13363" y="11928"/>
                  <a:pt x="13345" y="11931"/>
                  <a:pt x="13395" y="11956"/>
                </a:cubicBezTo>
              </a:path>
              <a:path w="2333" h="2233">
                <a:moveTo>
                  <a:pt x="13246" y="14114"/>
                </a:moveTo>
                <a:cubicBezTo>
                  <a:pt x="13225" y="13946"/>
                  <a:pt x="13246" y="13769"/>
                  <a:pt x="13246" y="13593"/>
                </a:cubicBezTo>
                <a:cubicBezTo>
                  <a:pt x="13246" y="13537"/>
                  <a:pt x="13229" y="13524"/>
                  <a:pt x="13221" y="13469"/>
                </a:cubicBezTo>
                <a:cubicBezTo>
                  <a:pt x="13440" y="13469"/>
                  <a:pt x="13649" y="13448"/>
                  <a:pt x="13866" y="13419"/>
                </a:cubicBezTo>
                <a:cubicBezTo>
                  <a:pt x="14017" y="13399"/>
                  <a:pt x="14160" y="13395"/>
                  <a:pt x="14312" y="13395"/>
                </a:cubicBezTo>
              </a:path>
              <a:path w="2333" h="2233">
                <a:moveTo>
                  <a:pt x="13618" y="13593"/>
                </a:moveTo>
                <a:cubicBezTo>
                  <a:pt x="13618" y="13743"/>
                  <a:pt x="13604" y="13898"/>
                  <a:pt x="13643" y="14039"/>
                </a:cubicBezTo>
              </a:path>
              <a:path w="2333" h="2233">
                <a:moveTo>
                  <a:pt x="13990" y="13667"/>
                </a:moveTo>
                <a:cubicBezTo>
                  <a:pt x="14043" y="13580"/>
                  <a:pt x="14078" y="13552"/>
                  <a:pt x="14188" y="13543"/>
                </a:cubicBezTo>
                <a:cubicBezTo>
                  <a:pt x="14268" y="13537"/>
                  <a:pt x="14314" y="13627"/>
                  <a:pt x="14337" y="13692"/>
                </a:cubicBezTo>
                <a:cubicBezTo>
                  <a:pt x="14374" y="13795"/>
                  <a:pt x="14230" y="13823"/>
                  <a:pt x="14163" y="13866"/>
                </a:cubicBezTo>
                <a:cubicBezTo>
                  <a:pt x="14083" y="13917"/>
                  <a:pt x="14023" y="13971"/>
                  <a:pt x="13990" y="14064"/>
                </a:cubicBezTo>
                <a:cubicBezTo>
                  <a:pt x="13990" y="14072"/>
                  <a:pt x="13990" y="14081"/>
                  <a:pt x="13990" y="14089"/>
                </a:cubicBezTo>
                <a:cubicBezTo>
                  <a:pt x="14039" y="14039"/>
                  <a:pt x="14125" y="13905"/>
                  <a:pt x="14213" y="13940"/>
                </a:cubicBezTo>
                <a:cubicBezTo>
                  <a:pt x="14347" y="13992"/>
                  <a:pt x="14355" y="14026"/>
                  <a:pt x="14511" y="13990"/>
                </a:cubicBezTo>
              </a:path>
              <a:path w="2333" h="2233">
                <a:moveTo>
                  <a:pt x="12576" y="13717"/>
                </a:moveTo>
                <a:cubicBezTo>
                  <a:pt x="12595" y="13642"/>
                  <a:pt x="12637" y="13588"/>
                  <a:pt x="12725" y="13568"/>
                </a:cubicBezTo>
                <a:cubicBezTo>
                  <a:pt x="12818" y="13547"/>
                  <a:pt x="12863" y="13716"/>
                  <a:pt x="12824" y="13767"/>
                </a:cubicBezTo>
                <a:cubicBezTo>
                  <a:pt x="12777" y="13829"/>
                  <a:pt x="12689" y="13874"/>
                  <a:pt x="12626" y="13915"/>
                </a:cubicBezTo>
                <a:cubicBezTo>
                  <a:pt x="12549" y="13965"/>
                  <a:pt x="12462" y="14038"/>
                  <a:pt x="12477" y="14139"/>
                </a:cubicBezTo>
                <a:cubicBezTo>
                  <a:pt x="12485" y="14147"/>
                  <a:pt x="12494" y="14155"/>
                  <a:pt x="12502" y="14163"/>
                </a:cubicBezTo>
                <a:cubicBezTo>
                  <a:pt x="12573" y="14092"/>
                  <a:pt x="12661" y="13944"/>
                  <a:pt x="12774" y="14015"/>
                </a:cubicBezTo>
                <a:cubicBezTo>
                  <a:pt x="12854" y="14065"/>
                  <a:pt x="12875" y="14128"/>
                  <a:pt x="12973" y="14089"/>
                </a:cubicBezTo>
                <a:cubicBezTo>
                  <a:pt x="12989" y="14081"/>
                  <a:pt x="13006" y="14072"/>
                  <a:pt x="13022" y="1406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latino"/>
              </a:rPr>
              <a:t>It is time for a quiz…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hen finished, turn in your quiz to the In-Box and get a set of Expression Match Card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Palatino"/>
              </a:rPr>
              <a:t>Matching Expressions Activity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Practice evaluating expressions by playing the matching expressions game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You will need: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Paper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Penci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Set of expression card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Directions:  Place the cards upside down on the desk.  Select two cards and flip them over.  Evaluate the expressions to see if you have a match.  If the cards match, take them.  If they don’t match, turn them back over and try again.  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If your neighbor finishes their quiz early too, you can play the game together taking turns.  The person with the most matches at the end of class is the winner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latino"/>
              </a:rPr>
              <a:t>No Homework!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1:54:09Z</dcterms:created>
  <dc:creator>Brian McGrath</dc:creator>
  <dc:description/>
  <dc:language>en-US</dc:language>
  <cp:lastModifiedBy>deanne elizabeth mcgrath</cp:lastModifiedBy>
  <cp:lastPrinted>2009-09-02T02:45:08Z</cp:lastPrinted>
  <dcterms:modified xsi:type="dcterms:W3CDTF">2010-09-10T17:40:36Z</dcterms:modified>
  <cp:revision>7</cp:revision>
  <dc:subject/>
  <dc:title>Course #1 Objective:   Students will evaluate numeric expressions using the order of operations</dc:title>
</cp:coreProperties>
</file>